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5AD2-55D8-40C6-97DE-F46D2AD07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g num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E1B4-EF8B-4F62-8F83-0F1609AAEA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798560" y="1179360"/>
            <a:ext cx="10407600" cy="780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g num"/>
          <p:cNvSpPr/>
          <p:nvPr/>
        </p:nvSpPr>
        <p:spPr>
          <a:xfrm>
            <a:off x="6105600" y="878004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B63DD36-C29C-4E7D-9F46-40F515D56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3340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g num"/>
          <p:cNvSpPr/>
          <p:nvPr/>
        </p:nvSpPr>
        <p:spPr>
          <a:xfrm>
            <a:off x="6105600" y="878004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FDDD750-4525-4666-BCF0-366DC10AB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3340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g num"/>
          <p:cNvSpPr/>
          <p:nvPr/>
        </p:nvSpPr>
        <p:spPr>
          <a:xfrm>
            <a:off x="6105600" y="878004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8AD3423-E3F4-455D-9A4F-923D5BD318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3340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g num"/>
          <p:cNvSpPr/>
          <p:nvPr/>
        </p:nvSpPr>
        <p:spPr>
          <a:xfrm>
            <a:off x="6105600" y="878004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354EDAB-7A89-499D-A71E-0FB3173B2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3340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g num"/>
          <p:cNvSpPr/>
          <p:nvPr/>
        </p:nvSpPr>
        <p:spPr>
          <a:xfrm>
            <a:off x="6105600" y="878004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C960A0B-179F-4FA9-B8F0-97E738D0A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3340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g num"/>
          <p:cNvSpPr/>
          <p:nvPr/>
        </p:nvSpPr>
        <p:spPr>
          <a:xfrm>
            <a:off x="6105600" y="878004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1F0FCF7-773F-43F9-93BC-F188EB836E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33400" y="733320"/>
            <a:ext cx="4811760" cy="3610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71200" y="4493880"/>
            <a:ext cx="4730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5EC-DD82-4884-8FFF-6DFAC52E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FBB-DAC6-4813-9169-3BDECFA8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401-89AB-400E-ACD2-44478870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1BC-3CE5-4D7B-A529-A66F629A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9F5-E7D8-4EAD-AFB6-DFA2EABD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496-B345-44D5-87D9-061EA53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214-9408-42DF-A8C9-BB6C562F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56E-B755-4A96-813E-BECFB282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877-1FBF-46DC-818E-251ADB05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096-82E6-4CB3-97BD-34E7192C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792-5A1A-45A7-B55B-9938924B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AF0-DF92-4F80-8E73-FD12D827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C363-E71A-4E91-91C1-3C74473536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0234-5391-473C-A317-127D90C37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2233440"/>
            <a:ext cx="9144000" cy="2627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blue-balls"/>
          <p:cNvPicPr/>
          <p:nvPr/>
        </p:nvPicPr>
        <p:blipFill>
          <a:blip r:embed="rId1">
            <a:grayscl/>
          </a:blip>
          <a:stretch/>
        </p:blipFill>
        <p:spPr>
          <a:xfrm>
            <a:off x="0" y="2247840"/>
            <a:ext cx="2630520" cy="2614680"/>
          </a:xfrm>
          <a:prstGeom prst="rect">
            <a:avLst/>
          </a:prstGeom>
          <a:ln w="0">
            <a:noFill/>
          </a:ln>
        </p:spPr>
      </p:pic>
      <p:sp>
        <p:nvSpPr>
          <p:cNvPr id="89" name="McK Date"/>
          <p:cNvSpPr/>
          <p:nvPr/>
        </p:nvSpPr>
        <p:spPr>
          <a:xfrm>
            <a:off x="5349960" y="4330800"/>
            <a:ext cx="379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8f8f8"/>
                </a:solidFill>
                <a:latin typeface="Calibri"/>
              </a:rPr>
              <a:t>Centre for Economic Performance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890800" y="2496960"/>
            <a:ext cx="4572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alibri"/>
              </a:rPr>
              <a:t>Research Standar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WMS-logofinal.jpg"/>
          <p:cNvPicPr/>
          <p:nvPr/>
        </p:nvPicPr>
        <p:blipFill>
          <a:blip r:embed="rId2"/>
          <a:stretch/>
        </p:blipFill>
        <p:spPr>
          <a:xfrm>
            <a:off x="0" y="0"/>
            <a:ext cx="3773520" cy="6984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D1C6-CC70-4501-BC31-8B1A229D5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BA7378C-D4AF-48F3-9214-046D5AAD4E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457200" y="1230480"/>
            <a:ext cx="822960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ways tell th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ru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never try to embellish or exaggerate th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t only is this dishonest, but it will also make your life more difficult as this can unravel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101520" y="236520"/>
            <a:ext cx="8810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YOU ARE REPRESENTING THE LSE, HARVARD AND STANFORD UNIVERSITIES AND MUST UPHOLD ETHICAL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4C788EF-8968-4D41-81C7-5E28AF8589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457200" y="1230480"/>
            <a:ext cx="822960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en arranging interviews you need a 3-step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peak to them by phone to arrange th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end the confirmation letter via email or f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un the interview at least 24 hours later to allow managers to review the information in the l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101520" y="236520"/>
            <a:ext cx="8810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PROVIDE THE MANAGERS WITH THE FULL INFORMATION ON THE INTERVIEW IN ADV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8AF45DA-7D5F-4B78-9BAE-8EEABD815A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57200" y="1230480"/>
            <a:ext cx="822960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avoid ever running interviews on the sp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for some reason they ca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run the interview now and want to do this you hav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peak to them by phone as us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end to them a confirmation letter on the spot. This must be done before beginning the inter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Explain verbally the key points on the letter (see next slide) before the interview be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be clear w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anno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, or pay for, any interviews that breach the procedure on this or the prior s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101520" y="457200"/>
            <a:ext cx="8810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HOW TO DEAL WITH THE OCCASIONAL “NOW OR NEV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7C0002B-B513-45F9-8071-4019FF3C22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457200" y="1230480"/>
            <a:ext cx="822960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takes about 45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is no discussion of the firm’s financial performanc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interview is confidential to ensure there are no risks from being invol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can ask questions to you, John Van Reenen, and Nick Bloom at any time. Their details are on the confirmation l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can cancel the interview at any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01520" y="457200"/>
            <a:ext cx="8810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KEY POINTS MANAGERS SHOULD BE AWARE OF BEFORE INTERVIEW BE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D6F6C17-A812-4D8F-98B3-D68FCB73E9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457200" y="1230480"/>
            <a:ext cx="822960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ta can only be kept on the server or the PCs in the locked CEP lib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laptops are allowed and no data is to be stored anywhere e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the server crashes, work from the paper interviews, write this up later and shred the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Keep paper copies next to your desk to allow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ways use the template letter in the attachment and in the email –  you are allowed to make minor modifications in the text in blue to better address a particular situation if necessary but do check with your trainer/manager. Do not write you own scheduling/confirmation let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101520" y="457200"/>
            <a:ext cx="8810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OTHER STANDARD PRECAUTIONS 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641102-2C8E-4A29-9273-6E3C29F1B06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57200" y="1230480"/>
            <a:ext cx="822960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any firm or manager is uncomfortable or unhappy, end the interview (if that will hel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Avoid doing anything to upset/annoy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here are 100s of firms to cont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any problems do arise, please tell your manager immed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We need to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t is much easier to deal with issues proactively than rea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101520" y="457200"/>
            <a:ext cx="8810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OTHER STANDARD PRECAUTIONS (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29:33Z</dcterms:created>
  <dc:creator>Renata Lemos</dc:creator>
  <dc:description/>
  <dc:language>en-US</dc:language>
  <cp:lastModifiedBy>RENATA LEMOS</cp:lastModifiedBy>
  <dcterms:modified xsi:type="dcterms:W3CDTF">2010-12-10T20:41:17Z</dcterms:modified>
  <cp:revision>20</cp:revision>
  <dc:subject/>
  <dc:title>Slide 1</dc:title>
</cp:coreProperties>
</file>