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484E-031F-407C-A4FD-38C7419D0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g num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C07-BEA4-414B-8DCD-7C63AFC5FD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7600" cy="780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2DE9AEB-FF27-4A67-9E87-2AA8C451E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B68FB1A-2519-486C-ABFB-F5F74A218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B26-41B5-48A4-9CE1-4F0D3331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86A2319-610A-47F3-976F-6EBD52FAF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DD0D49A-9D44-41EE-8BDC-97B3E346A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3BB-FB03-4229-99CA-59258DCF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19F55AD-3526-4DFC-9780-FAE832A88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B43D07A-DCBD-4959-8771-FA3D71EE7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65A465-BC38-4F36-8627-B410EBB7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800360" y="1177920"/>
            <a:ext cx="10414080" cy="7810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D6D-1CB2-4676-94B3-44D083A9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A8FF159-0005-4475-A0F5-D5F68245C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F959D4-4488-4119-9197-36A0520F8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oc id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X-ZWG547-20040720-DSaTR-Project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g num"/>
          <p:cNvSpPr/>
          <p:nvPr/>
        </p:nvSpPr>
        <p:spPr>
          <a:xfrm>
            <a:off x="6105600" y="8713800"/>
            <a:ext cx="544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DB15-5497-4B6A-8AF5-D6A3ACCA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06320" y="249120"/>
            <a:ext cx="5535720" cy="4152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7600" y="4572000"/>
            <a:ext cx="584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85134FC-4A70-43DF-AD18-94E87D5D6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25A6477-8B8F-4880-8676-F827741DC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9FB4D12-0E5F-4653-B860-3F578A541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g num"/>
          <p:cNvSpPr/>
          <p:nvPr/>
        </p:nvSpPr>
        <p:spPr>
          <a:xfrm>
            <a:off x="6107040" y="8780040"/>
            <a:ext cx="5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8A04936-8165-4F55-AF98-7BE02B826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3196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A68-A147-43D7-BBFB-0AB631F2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CA6-67C5-46DA-A2EB-9751021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17C-666E-4DFA-9631-18DE46AE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A56-546C-49B1-BE43-C80A26FB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2BF-92AB-4681-8C68-6F8C536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B65-9AEB-43E7-9D7D-7C17C1E6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D87-24B3-4AFE-8218-386F9FA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9EF-C32F-4344-919A-D44FC06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855-A9B0-47EF-9AB7-2E60E285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D25-EDE3-46DB-8344-7278687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166-1FB5-4408-99E9-9233EEA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C60-FC0D-4541-8F19-B6C9186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E93-66BA-45C1-BCF6-0C75A0F03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888-3381-47DA-B117-B2B796854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2233440"/>
            <a:ext cx="9144000" cy="2627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lue-balls"/>
          <p:cNvPicPr/>
          <p:nvPr/>
        </p:nvPicPr>
        <p:blipFill>
          <a:blip r:embed="rId1">
            <a:grayscl/>
          </a:blip>
          <a:stretch/>
        </p:blipFill>
        <p:spPr>
          <a:xfrm>
            <a:off x="0" y="2247840"/>
            <a:ext cx="2630520" cy="2614680"/>
          </a:xfrm>
          <a:prstGeom prst="rect">
            <a:avLst/>
          </a:prstGeom>
          <a:ln w="0">
            <a:noFill/>
          </a:ln>
        </p:spPr>
      </p:pic>
      <p:sp>
        <p:nvSpPr>
          <p:cNvPr id="89" name="McK Date"/>
          <p:cNvSpPr/>
          <p:nvPr/>
        </p:nvSpPr>
        <p:spPr>
          <a:xfrm>
            <a:off x="5349960" y="4330800"/>
            <a:ext cx="379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8f8f8"/>
                </a:solidFill>
                <a:latin typeface="Calibri"/>
              </a:rPr>
              <a:t>Centre for Economic Performanc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890800" y="249696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</a:rPr>
              <a:t>Your Role as an Analy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WMS-logofinal.jpg"/>
          <p:cNvPicPr/>
          <p:nvPr/>
        </p:nvPicPr>
        <p:blipFill>
          <a:blip r:embed="rId2"/>
          <a:stretch/>
        </p:blipFill>
        <p:spPr>
          <a:xfrm>
            <a:off x="0" y="0"/>
            <a:ext cx="3773520" cy="6984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10CD-1193-4B43-B4D1-5E3CD0789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57200" y="88596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acking data accurately and appropriate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Scheduling information should be updated appropriately in your access boo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Called time, Name, Position, Email, Phone Number, Detaile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Scheduled interviews should be appropriately noted on your calendar and share with the team Calend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Interviewer/ Company Information / Interviewee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Company Status should be updated accurate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Interviews conducted must be fully completed with every management question, blanks must be noted in the post-interview com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Interview conducted or traded (run by other analyst) must be recorded from the interview she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ata will be checked once a week on every Frid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ata Stor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Daily backup and supervisor chec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NOTE: You should never leave the project premises with any company/ project information (other than training material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DATA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560-9227-414F-A568-046EBE49A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457200" y="104292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ers are clustered in small groups of 2 or 3 on the basis of their country coverage and staggered working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Groups will have individual targets and overall team targ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alk to your group on a regular basis to spot problems (continuous improvement!) or to solve existing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Every two weeks we will update you on the research outcomes of the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INTERACTING WITH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E94-339E-4832-B01C-6B236DC54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151000" y="2819520"/>
            <a:ext cx="5087880" cy="776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216160" y="1309680"/>
            <a:ext cx="547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alys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Pay and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ther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F65-6E89-41DB-98CF-0E60BDA6F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457200" y="107784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Analyst are paid pe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Calibri"/>
              </a:rPr>
              <a:t>acceptable interview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run on a rate of £4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The scheduler will be paid for £15, and the conductor will be paid for £30 for “traded” inter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The interview will be counted towards payment only if the box “interview checked” is ticked on the post interview sheet by Mimi or Ren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ayments occurs at the end of the FOLLOWING mon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Your first pay check will be received at the end of Augu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You will receive your final pay check at the end of Octob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PAY AND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F1A-1B1E-4A05-9429-4EA607B65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457200" y="106668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 was of acceptable duration (&gt;=45 minut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 was conducted with appropriate interviewee (eg. plant manag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 was conducted and gathered appropriate cont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 is completed, with no major data err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nterview has been checked off by your supervisors (by clicking the “checked” drop down bo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NOTE: Only managers will check this box; and they will do so in your actual book outside of project hou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CCEPTABLE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BD60-1D5B-4C0C-997D-6ADF1E7D3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51000" y="3505320"/>
            <a:ext cx="5087880" cy="776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16160" y="1309680"/>
            <a:ext cx="547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alys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y and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Other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780-82FC-4358-A0C9-54337D117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457200" y="115416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t is hard to schedule calls and make interviews with lots of background noise, particularly if it does not sound ser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So try to avoid making excessive noise in the survey room – phoning is obviously fine, but please use the common area outside for clowning around, shouting, loud mobile phone conversations, practicing musical instruments etc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TEAM ETIQUET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4F6-8767-4C9A-A18D-70B311B15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457200" y="115416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Everybody that is staying for 8+ weeks gets up to 3 days o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lease coordinate your holidays with the needs of your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lease also coordinate with the other interview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Please inform your manager by the end of the 2</a:t>
            </a:r>
            <a:r>
              <a:rPr b="0" lang="en-GB" sz="21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week of the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HOLI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4579-836C-4265-895A-9D160E31A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116-EF47-4949-A7D1-E236CFCF5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51000" y="1438200"/>
            <a:ext cx="5087880" cy="776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216160" y="1309680"/>
            <a:ext cx="547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alys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y and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ther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BB2-0E2F-44C3-9037-180DAA73C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B619F5-F39B-4194-8F0B-1D4ADAF9F2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457200" y="68256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4 directors, 2 managers and 14 analy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Team will be working around the clo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ost analysts will need to share des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5000"/>
          <a:ext cx="8190000" cy="4435560"/>
        </p:xfrm>
        <a:graphic>
          <a:graphicData uri="http://schemas.openxmlformats.org/drawingml/2006/table">
            <a:tbl>
              <a:tblPr/>
              <a:tblGrid>
                <a:gridCol w="955800"/>
                <a:gridCol w="401400"/>
                <a:gridCol w="401760"/>
                <a:gridCol w="403200"/>
                <a:gridCol w="399960"/>
                <a:gridCol w="401760"/>
                <a:gridCol w="403200"/>
                <a:gridCol w="401760"/>
                <a:gridCol w="401400"/>
                <a:gridCol w="401760"/>
                <a:gridCol w="403200"/>
                <a:gridCol w="401760"/>
                <a:gridCol w="401400"/>
                <a:gridCol w="403200"/>
                <a:gridCol w="400320"/>
                <a:gridCol w="401400"/>
                <a:gridCol w="401760"/>
                <a:gridCol w="403200"/>
                <a:gridCol w="401760"/>
              </a:tblGrid>
              <a:tr h="24624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O Shu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illaume CARRERO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 Q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abian WIGAND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U Yuewen, Yvonne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ão Luís FERREIRA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i Asgar KAGZI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r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 CURIA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iddhi VED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gnacio GURRERO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lippo FABBRI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mone BOHNENBERGER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lja KORE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sk 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na MITCHELL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84240" rIns="8424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nag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Mingxuan Qi, Mi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84240" rIns="8424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Renata Lem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EET THE TEAM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57200" y="115416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What is an interviewer/analyst? What is a manag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Calibri"/>
              </a:rPr>
              <a:t>Interview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An interviewer schedules and runs telephone interviews with plant manager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Interviewers work in close contact with the manag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Calibri"/>
              </a:rPr>
              <a:t>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Listens and double scores most of the intervie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Coaches the interviewer on all aspects relating to the survey (scheduling, confirming, interviewing, and scor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Checks the data and ensures qu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MEET THE TEAM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476692-2026-45C0-811A-1F70CDA510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151000" y="2133720"/>
            <a:ext cx="5087880" cy="7761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16160" y="1309680"/>
            <a:ext cx="547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Analys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y and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2232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ther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11200"/>
            <a:ext cx="914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E82-8956-4BF6-95BF-9B205CD1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Scheduling Inter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onducting Inter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Double Sco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Data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Interacting with the grou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24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ANALYS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0D2A-E586-439E-8A13-A017BDFD8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7200" y="107784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cheduling interviews takes most of the analyst’s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t involves calling switchboards, obtaining manager’s names, being connected to them and, eventually, convincing the managers to run the inter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o make the most of your scheduling tim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Be persistent and make lots of ca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Arial"/>
              </a:rPr>
              <a:t>Learn from your fellow interviewers/managers (they might have found the magic words!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6" descr=""/>
          <p:cNvPicPr/>
          <p:nvPr/>
        </p:nvPicPr>
        <p:blipFill>
          <a:blip r:embed="rId1"/>
          <a:stretch/>
        </p:blipFill>
        <p:spPr>
          <a:xfrm>
            <a:off x="662040" y="3311640"/>
            <a:ext cx="7297560" cy="3546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CHEDUL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5E4E-348D-4021-A261-61C33410E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57200" y="130644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Running the interviews is the fun part of the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he interview process requires a wide range of skills including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Calibri"/>
              </a:rPr>
              <a:t>questioning ability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Calibri"/>
              </a:rPr>
              <a:t>a deep understanding of the survey concep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o run valuable interviews and score them wel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Follow the training guidelines (e.g. ask open question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Study the survey ques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Arial"/>
              </a:rPr>
              <a:t>Ask your managers for feedback/advice, we are there for this reas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RUNN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AE78-7B7C-4775-B53C-A93280211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457200" y="1143000"/>
            <a:ext cx="822960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WHAT: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Silently listening to another analyst’s inter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Scoring calibration purpo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Necessary for continual training and improve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Data integrity and quality of research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ontinual during first weeks of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Non-interview times, need a break, et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TARGE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01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20 Interviews during the first 4 wee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101520" y="498600"/>
            <a:ext cx="859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DOUBLE SCOR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B3D-EBCB-4D8C-A928-996BF214A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29:33Z</dcterms:created>
  <dc:creator>Renata Lemos</dc:creator>
  <dc:description/>
  <dc:language>en-US</dc:language>
  <cp:lastModifiedBy>RENATA LEMOS</cp:lastModifiedBy>
  <dcterms:modified xsi:type="dcterms:W3CDTF">2010-12-10T20:45:22Z</dcterms:modified>
  <cp:revision>16</cp:revision>
  <dc:subject/>
  <dc:title>Slide 1</dc:title>
</cp:coreProperties>
</file>