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E273-0369-4465-9D7A-B0C457E943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g num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DAB1-0DCF-44FD-AFA1-0D6C8B76EA1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-1798560" y="1179360"/>
            <a:ext cx="10407600" cy="78073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doc id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X-ZWG547-20040720-DSaTR-Project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g num"/>
          <p:cNvSpPr/>
          <p:nvPr/>
        </p:nvSpPr>
        <p:spPr>
          <a:xfrm>
            <a:off x="6105600" y="8713800"/>
            <a:ext cx="54432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D2E2-FDB5-4BE4-B442-62014FBF0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-1797120" y="1181160"/>
            <a:ext cx="10406160" cy="780552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52600" y="326880"/>
            <a:ext cx="5572080" cy="3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doc id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X-ZWG547-20040720-DSaTR-Project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g num"/>
          <p:cNvSpPr/>
          <p:nvPr/>
        </p:nvSpPr>
        <p:spPr>
          <a:xfrm>
            <a:off x="6105600" y="8713800"/>
            <a:ext cx="54432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8D98-DB98-4BCD-A17E-62827DD64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-1797120" y="1181160"/>
            <a:ext cx="10406160" cy="780552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552600" y="326880"/>
            <a:ext cx="5572080" cy="3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doc id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X-ZWG547-20040720-DSaTR-Project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g num"/>
          <p:cNvSpPr/>
          <p:nvPr/>
        </p:nvSpPr>
        <p:spPr>
          <a:xfrm>
            <a:off x="6105600" y="8713800"/>
            <a:ext cx="54432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2F8E-ED6F-4F08-9DE3-7A5114CD6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706320" y="249120"/>
            <a:ext cx="5535720" cy="41529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507600" y="4572000"/>
            <a:ext cx="58402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doc id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X-ZWG547-20040720-DSaTR-Project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g num"/>
          <p:cNvSpPr/>
          <p:nvPr/>
        </p:nvSpPr>
        <p:spPr>
          <a:xfrm>
            <a:off x="6105600" y="8713800"/>
            <a:ext cx="54432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ACD5-E43F-4F25-965B-617DDCC83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-1798560" y="1179360"/>
            <a:ext cx="10409040" cy="780912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818640" y="339480"/>
            <a:ext cx="584388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doc id"/>
          <p:cNvSpPr/>
          <p:nvPr/>
        </p:nvSpPr>
        <p:spPr>
          <a:xfrm>
            <a:off x="8709120" y="35280"/>
            <a:ext cx="1008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X-AAA123-20050610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g num"/>
          <p:cNvSpPr/>
          <p:nvPr/>
        </p:nvSpPr>
        <p:spPr>
          <a:xfrm>
            <a:off x="9167760" y="8798040"/>
            <a:ext cx="546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fld id="{5F955828-CC16-4189-A1A8-6A9FADD62ED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-1797120" y="1179360"/>
            <a:ext cx="10409400" cy="780732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818640" y="339480"/>
            <a:ext cx="584388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doc id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X-ZWG547-20040720-DSaTR-Project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g num"/>
          <p:cNvSpPr/>
          <p:nvPr/>
        </p:nvSpPr>
        <p:spPr>
          <a:xfrm>
            <a:off x="6105600" y="8713800"/>
            <a:ext cx="54432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49F3-1530-4B4E-8434-BB9A5D2A0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706320" y="249120"/>
            <a:ext cx="5535720" cy="415296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507600" y="4571640"/>
            <a:ext cx="58402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doc id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X-ZWG547-20040720-DSaTR-Project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g num"/>
          <p:cNvSpPr/>
          <p:nvPr/>
        </p:nvSpPr>
        <p:spPr>
          <a:xfrm>
            <a:off x="6105600" y="8713800"/>
            <a:ext cx="54432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280B-097A-4CF4-BC62-32F8DBAAC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706320" y="249120"/>
            <a:ext cx="5535720" cy="415296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7600" y="4571640"/>
            <a:ext cx="58402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doc id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X-ZWG547-20040720-DSaTR-Project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g num"/>
          <p:cNvSpPr/>
          <p:nvPr/>
        </p:nvSpPr>
        <p:spPr>
          <a:xfrm>
            <a:off x="6105600" y="8713800"/>
            <a:ext cx="54432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634E-4A93-4C28-8736-B5401BEFD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706320" y="249120"/>
            <a:ext cx="5537160" cy="415296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7600" y="4571640"/>
            <a:ext cx="58402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doc id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X-ZWG547-20040720-DSaTR-Project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g num"/>
          <p:cNvSpPr/>
          <p:nvPr/>
        </p:nvSpPr>
        <p:spPr>
          <a:xfrm>
            <a:off x="6105600" y="8713800"/>
            <a:ext cx="54432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D8DB-3C68-4C4C-8260-FF9975E5F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706320" y="249120"/>
            <a:ext cx="5535720" cy="415296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507600" y="4572000"/>
            <a:ext cx="58402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doc id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X-ZWG547-20040720-DSaTR-Project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g num"/>
          <p:cNvSpPr/>
          <p:nvPr/>
        </p:nvSpPr>
        <p:spPr>
          <a:xfrm>
            <a:off x="6105600" y="8713800"/>
            <a:ext cx="54432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D613-10C2-4699-8F4E-3EAD64A99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706320" y="249120"/>
            <a:ext cx="5535720" cy="415296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507600" y="4571640"/>
            <a:ext cx="58402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doc id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X-ZWG547-20040720-DSaTR-Project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g num"/>
          <p:cNvSpPr/>
          <p:nvPr/>
        </p:nvSpPr>
        <p:spPr>
          <a:xfrm>
            <a:off x="6105600" y="8713800"/>
            <a:ext cx="54432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25C7-CA09-4261-9CF2-C9A7237D4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706320" y="249120"/>
            <a:ext cx="5535720" cy="41529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507600" y="4572000"/>
            <a:ext cx="58402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doc id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X-ZWG547-20040720-DSaTR-Project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g num"/>
          <p:cNvSpPr/>
          <p:nvPr/>
        </p:nvSpPr>
        <p:spPr>
          <a:xfrm>
            <a:off x="6105600" y="8713800"/>
            <a:ext cx="54432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EDDA-5490-4C0C-A9F4-D26EE2227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-1047600" y="361800"/>
            <a:ext cx="5217840" cy="3915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doc id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X-ZWG547-20040720-DSaTR-Project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g num"/>
          <p:cNvSpPr/>
          <p:nvPr/>
        </p:nvSpPr>
        <p:spPr>
          <a:xfrm>
            <a:off x="6105600" y="8713800"/>
            <a:ext cx="54432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A323-97DA-4227-A70D-CB0EDCA95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-1797120" y="1181160"/>
            <a:ext cx="10406160" cy="780552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550440" y="326880"/>
            <a:ext cx="5573880" cy="3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doc id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X-ZWG547-20040720-DSaTR-Project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g num"/>
          <p:cNvSpPr/>
          <p:nvPr/>
        </p:nvSpPr>
        <p:spPr>
          <a:xfrm>
            <a:off x="6105600" y="8713800"/>
            <a:ext cx="54432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EC4E-1938-4465-88A9-DDFE0812C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-1800360" y="1177920"/>
            <a:ext cx="10415880" cy="78138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817560" y="339480"/>
            <a:ext cx="584352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doc id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X-ZWG547-20040720-DSaTR-Project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g num"/>
          <p:cNvSpPr/>
          <p:nvPr/>
        </p:nvSpPr>
        <p:spPr>
          <a:xfrm>
            <a:off x="6105600" y="8713800"/>
            <a:ext cx="54432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0CEB-8323-48BF-BCEC-41873920E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-1800360" y="1177920"/>
            <a:ext cx="10415880" cy="78138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817560" y="339480"/>
            <a:ext cx="584352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doc id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X-ZWG547-20040720-DSaTR-Project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g num"/>
          <p:cNvSpPr/>
          <p:nvPr/>
        </p:nvSpPr>
        <p:spPr>
          <a:xfrm>
            <a:off x="6105600" y="8713800"/>
            <a:ext cx="54432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8D24-B6BA-436E-A203-F926ACA22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-1800360" y="1177920"/>
            <a:ext cx="10414080" cy="781056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818640" y="339480"/>
            <a:ext cx="584388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doc id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X-ZWG547-20040720-DSaTR-Project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g num"/>
          <p:cNvSpPr/>
          <p:nvPr/>
        </p:nvSpPr>
        <p:spPr>
          <a:xfrm>
            <a:off x="6105600" y="8713800"/>
            <a:ext cx="54432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D28C-255E-4716-A207-D784E382A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706320" y="249120"/>
            <a:ext cx="5537160" cy="41529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507600" y="4572000"/>
            <a:ext cx="58402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doc id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X-ZWG547-20040720-DSaTR-Project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g num"/>
          <p:cNvSpPr/>
          <p:nvPr/>
        </p:nvSpPr>
        <p:spPr>
          <a:xfrm>
            <a:off x="6105600" y="8713800"/>
            <a:ext cx="54432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A04C-871A-4163-AF9D-75BD46735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706320" y="249120"/>
            <a:ext cx="5535720" cy="415296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507600" y="4572000"/>
            <a:ext cx="58402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doc id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X-ZWG547-20040720-DSaTR-Project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g num"/>
          <p:cNvSpPr/>
          <p:nvPr/>
        </p:nvSpPr>
        <p:spPr>
          <a:xfrm>
            <a:off x="6105600" y="8713800"/>
            <a:ext cx="54432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8692EC1-DD81-4A57-9E2D-F7B32BE2C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-1800360" y="1177920"/>
            <a:ext cx="10414080" cy="781056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doc id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X-ZWG547-20040720-DSaTR-Project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g num"/>
          <p:cNvSpPr/>
          <p:nvPr/>
        </p:nvSpPr>
        <p:spPr>
          <a:xfrm>
            <a:off x="6105600" y="8713800"/>
            <a:ext cx="54432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361F-2003-4265-BDCF-F486F134E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-1798560" y="1179360"/>
            <a:ext cx="10409040" cy="780912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818640" y="339480"/>
            <a:ext cx="584388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doc id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X-ZWG547-20040720-DSaTR-Project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g num"/>
          <p:cNvSpPr/>
          <p:nvPr/>
        </p:nvSpPr>
        <p:spPr>
          <a:xfrm>
            <a:off x="6105600" y="8713800"/>
            <a:ext cx="54432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2A4C-936E-4D07-8F39-AB99A4369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706320" y="249120"/>
            <a:ext cx="5535720" cy="41529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507600" y="4572000"/>
            <a:ext cx="58402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doc id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X-ZWG547-20040720-DSaTR-Project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g num"/>
          <p:cNvSpPr/>
          <p:nvPr/>
        </p:nvSpPr>
        <p:spPr>
          <a:xfrm>
            <a:off x="6105600" y="8713800"/>
            <a:ext cx="54432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9769-A5FF-43EA-8FD4-BFD7AAEF0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830160" y="733320"/>
            <a:ext cx="4811760" cy="36100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871200" y="4493880"/>
            <a:ext cx="49626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ffective performance management is a combination of tracking the right metrics with realistic stretch targets, and having constructive conversations about trends in the data – both positive and negative – to ensure all employees are working toward the same go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section, we will focus on metrics and we will come back to performance dialogues later in the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siness-performance metrics should b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89000"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used to help managers make sensible trade-offs; selecting the mo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89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ificant drivers ensure decisions are directionally correct across ma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89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tracked potential indic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89000"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caded, so that KPIs make sense, are actionable and measurable at each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89000"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anced with no bias to short or long te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89000"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, so they are easy to understand, to collect, and to re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doc id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X-ZWG547-20040720-DSaTR-Project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g num"/>
          <p:cNvSpPr/>
          <p:nvPr/>
        </p:nvSpPr>
        <p:spPr>
          <a:xfrm>
            <a:off x="6105600" y="8713800"/>
            <a:ext cx="54432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82E6-F1BC-40B4-B315-F14FE21D8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706320" y="249120"/>
            <a:ext cx="5535720" cy="415296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07600" y="4572000"/>
            <a:ext cx="58402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doc id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X-ZWG547-20040720-DSaTR-Project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g num"/>
          <p:cNvSpPr/>
          <p:nvPr/>
        </p:nvSpPr>
        <p:spPr>
          <a:xfrm>
            <a:off x="6105600" y="8713800"/>
            <a:ext cx="54432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467B-1A57-4176-BD57-21D9CA31F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30400" y="69696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0880" y="4279680"/>
            <a:ext cx="500040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doc id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X-ZWG547-20040720-DSaTR-Project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g num"/>
          <p:cNvSpPr/>
          <p:nvPr/>
        </p:nvSpPr>
        <p:spPr>
          <a:xfrm>
            <a:off x="6105600" y="8713800"/>
            <a:ext cx="54432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6FE6-59AE-4ABD-B097-03DC44E5B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7240" y="4343040"/>
            <a:ext cx="548352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doc id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X-ZWG547-20040720-DSaTR-Project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g num"/>
          <p:cNvSpPr/>
          <p:nvPr/>
        </p:nvSpPr>
        <p:spPr>
          <a:xfrm>
            <a:off x="6105600" y="8713800"/>
            <a:ext cx="54432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C182-53C6-4CB4-88C2-A1EF46C46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-1797120" y="1181160"/>
            <a:ext cx="10406160" cy="780552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552600" y="326880"/>
            <a:ext cx="5572080" cy="3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doc id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X-ZWG547-20040720-DSaTR-Project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g num"/>
          <p:cNvSpPr/>
          <p:nvPr/>
        </p:nvSpPr>
        <p:spPr>
          <a:xfrm>
            <a:off x="6105600" y="8713800"/>
            <a:ext cx="54432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98D5-DA4C-4301-9939-3CC9C6BBA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-1797120" y="1181160"/>
            <a:ext cx="10406160" cy="780552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552600" y="326880"/>
            <a:ext cx="5572080" cy="3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233A-E5F4-48AC-B793-4A72C4ACE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70F6-AF40-444C-8129-ED5F6477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34F5-F077-4854-9503-6909AC837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9312-ABDC-49BA-AC77-AC94A18E7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61B9-AE86-45FE-B55A-1A55F197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9867-84A0-4B86-A04E-086E9F47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0944-7746-4CEC-8568-4CAB9B71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3CDF-B3A2-41C8-8BE9-6A7C17B0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D8FA-AB24-499E-B064-4C7A76BC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3F3B-645F-4976-B598-B39DA2E7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987F-E268-493A-9971-F3DA452D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41A6-7A60-4873-8E22-7DBDDA29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51CE-DA5B-4AD8-BF99-14BD3CC333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EE26-2EFD-44E5-9F00-5AFEDBB712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8"/>
          <p:cNvSpPr/>
          <p:nvPr/>
        </p:nvSpPr>
        <p:spPr>
          <a:xfrm>
            <a:off x="0" y="2233440"/>
            <a:ext cx="9144000" cy="2627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0" descr="blue-balls"/>
          <p:cNvPicPr/>
          <p:nvPr/>
        </p:nvPicPr>
        <p:blipFill>
          <a:blip r:embed="rId1">
            <a:grayscl/>
          </a:blip>
          <a:stretch/>
        </p:blipFill>
        <p:spPr>
          <a:xfrm>
            <a:off x="0" y="2247840"/>
            <a:ext cx="2630520" cy="2614680"/>
          </a:xfrm>
          <a:prstGeom prst="rect">
            <a:avLst/>
          </a:prstGeom>
          <a:ln w="0">
            <a:noFill/>
          </a:ln>
        </p:spPr>
      </p:pic>
      <p:sp>
        <p:nvSpPr>
          <p:cNvPr id="128" name="McK Date"/>
          <p:cNvSpPr/>
          <p:nvPr/>
        </p:nvSpPr>
        <p:spPr>
          <a:xfrm>
            <a:off x="5349960" y="4330800"/>
            <a:ext cx="3794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8f8f8"/>
                </a:solidFill>
                <a:latin typeface="Calibri"/>
              </a:rPr>
              <a:t>Centre for Economic Performance,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2890800" y="2496960"/>
            <a:ext cx="4572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Calibri"/>
              </a:rPr>
              <a:t>Scheduling and Running Management Interview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WMS-logofinal.jpg"/>
          <p:cNvPicPr/>
          <p:nvPr/>
        </p:nvPicPr>
        <p:blipFill>
          <a:blip r:embed="rId2"/>
          <a:stretch/>
        </p:blipFill>
        <p:spPr>
          <a:xfrm>
            <a:off x="0" y="0"/>
            <a:ext cx="3773520" cy="698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 hidden="1"/>
          <p:cNvSpPr/>
          <p:nvPr/>
        </p:nvSpPr>
        <p:spPr>
          <a:xfrm>
            <a:off x="0" y="233280"/>
            <a:ext cx="1620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3182760" y="1501920"/>
            <a:ext cx="5172120" cy="46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3160" indent="-1717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Ask one question at a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160" indent="-171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BAD: “What percentage of people are highly rated and how do you reward them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160" indent="-171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BETTER: “What percentage of people are highly rated?”, </a:t>
            </a:r>
            <a:r>
              <a:rPr b="0" i="1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hen “How do you reward those people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160" indent="-1717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Avoid ‘management jargon/terminology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160" indent="-171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BAD: How is talent management discussed within your organisa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160" indent="-171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BETTER : How do you attract and retain people in your organisa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160" indent="-171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160" indent="-1717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Avoid closed ques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160" indent="-171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BAD: Do you think your employees see you as a good employer or think your competitors are bette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160" indent="-171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BETTER : How do you think your employees view you as an employe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5"/>
          <p:cNvSpPr/>
          <p:nvPr/>
        </p:nvSpPr>
        <p:spPr>
          <a:xfrm>
            <a:off x="2765520" y="1415880"/>
            <a:ext cx="5654520" cy="1649520"/>
          </a:xfrm>
          <a:custGeom>
            <a:avLst/>
            <a:gdLst>
              <a:gd name="textAreaLeft" fmla="*/ 0 w 5654520"/>
              <a:gd name="textAreaRight" fmla="*/ 5654880 w 5654520"/>
              <a:gd name="textAreaTop" fmla="*/ 0 h 1649520"/>
              <a:gd name="textAreaBottom" fmla="*/ 1649880 h 1649520"/>
            </a:gdLst>
            <a:ahLst/>
            <a:rect l="textAreaLeft" t="textAreaTop" r="textAreaRight" b="textAreaBottom"/>
            <a:pathLst>
              <a:path w="3533" h="1138">
                <a:moveTo>
                  <a:pt x="0" y="1138"/>
                </a:moveTo>
                <a:lnTo>
                  <a:pt x="246" y="0"/>
                </a:lnTo>
                <a:lnTo>
                  <a:pt x="3533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6"/>
          <p:cNvSpPr/>
          <p:nvPr/>
        </p:nvSpPr>
        <p:spPr>
          <a:xfrm>
            <a:off x="2762280" y="3957480"/>
            <a:ext cx="5680080" cy="2509920"/>
          </a:xfrm>
          <a:custGeom>
            <a:avLst/>
            <a:gdLst>
              <a:gd name="textAreaLeft" fmla="*/ 0 w 5680080"/>
              <a:gd name="textAreaRight" fmla="*/ 5680080 w 5680080"/>
              <a:gd name="textAreaTop" fmla="*/ 0 h 2509920"/>
              <a:gd name="textAreaBottom" fmla="*/ 2510280 h 2509920"/>
            </a:gdLst>
            <a:ahLst/>
            <a:rect l="textAreaLeft" t="textAreaTop" r="textAreaRight" b="textAreaBottom"/>
            <a:pathLst>
              <a:path w="3582" h="1454">
                <a:moveTo>
                  <a:pt x="0" y="0"/>
                </a:moveTo>
                <a:lnTo>
                  <a:pt x="337" y="1454"/>
                </a:lnTo>
                <a:lnTo>
                  <a:pt x="3582" y="1454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609480" y="1347840"/>
            <a:ext cx="2162160" cy="906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520" rIns="74520" tIns="74520" bIns="74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epare the interview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8"/>
          <p:cNvSpPr/>
          <p:nvPr/>
        </p:nvSpPr>
        <p:spPr>
          <a:xfrm>
            <a:off x="487440" y="1222200"/>
            <a:ext cx="245880" cy="2462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Group 9" descr=""/>
          <p:cNvPicPr/>
          <p:nvPr/>
        </p:nvPicPr>
        <p:blipFill>
          <a:blip r:embed="rId1"/>
          <a:stretch/>
        </p:blipFill>
        <p:spPr>
          <a:xfrm>
            <a:off x="433440" y="2846520"/>
            <a:ext cx="2413080" cy="1109520"/>
          </a:xfrm>
          <a:prstGeom prst="rect">
            <a:avLst/>
          </a:prstGeom>
          <a:ln w="0">
            <a:noFill/>
          </a:ln>
        </p:spPr>
      </p:pic>
      <p:grpSp>
        <p:nvGrpSpPr>
          <p:cNvPr id="216" name="Group 12"/>
          <p:cNvGrpSpPr/>
          <p:nvPr/>
        </p:nvGrpSpPr>
        <p:grpSpPr>
          <a:xfrm>
            <a:off x="487440" y="4602240"/>
            <a:ext cx="2283840" cy="1033200"/>
            <a:chOff x="487440" y="4602240"/>
            <a:chExt cx="2283840" cy="1033200"/>
          </a:xfrm>
        </p:grpSpPr>
        <p:sp>
          <p:nvSpPr>
            <p:cNvPr id="217" name="Rectangle 13"/>
            <p:cNvSpPr/>
            <p:nvPr/>
          </p:nvSpPr>
          <p:spPr>
            <a:xfrm>
              <a:off x="608760" y="4728240"/>
              <a:ext cx="2162520" cy="90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73080" bIns="73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robe for details, without lead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4"/>
            <p:cNvSpPr/>
            <p:nvPr/>
          </p:nvSpPr>
          <p:spPr>
            <a:xfrm>
              <a:off x="487440" y="4602240"/>
              <a:ext cx="246240" cy="2458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Rectangle 15"/>
          <p:cNvSpPr/>
          <p:nvPr/>
        </p:nvSpPr>
        <p:spPr>
          <a:xfrm>
            <a:off x="106200" y="511200"/>
            <a:ext cx="8207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Calibri"/>
              </a:rPr>
              <a:t>KEY STEPS IN AN EFFECTIVE INTER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1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99EA-0438-44A5-BE09-8AB5BC6C13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3" hidden="1"/>
          <p:cNvSpPr/>
          <p:nvPr/>
        </p:nvSpPr>
        <p:spPr>
          <a:xfrm>
            <a:off x="0" y="146160"/>
            <a:ext cx="16200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3182760" y="1414440"/>
            <a:ext cx="5172120" cy="50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3160" indent="-1717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Begin with an open question. e.g.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55680" indent="-17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Could you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please describe your organisation’s process for tracking the employee performanc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160" indent="-1717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If the response is unclear or there is a lack of understanding, then break the question down into more specific questions, e.g.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55680" indent="-17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How often do you meet to discuss the performance of employe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55680" indent="-17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What measures are used to determin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their performanc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55680" indent="-177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160" indent="-1717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If the response is too general, ask for a specific example, e.g.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55680" indent="-17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Can you describe exactly what happens when a typical employee is reviewe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55680" indent="-17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Can you remember a recent employee review meeting that you attended?  What was the follow up plan leaving this meeti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609480" y="1260360"/>
            <a:ext cx="2162160" cy="906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520" rIns="74520" tIns="74520" bIns="74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epare the interview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6"/>
          <p:cNvSpPr/>
          <p:nvPr/>
        </p:nvSpPr>
        <p:spPr>
          <a:xfrm>
            <a:off x="487440" y="1135080"/>
            <a:ext cx="245880" cy="2458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7"/>
          <p:cNvGrpSpPr/>
          <p:nvPr/>
        </p:nvGrpSpPr>
        <p:grpSpPr>
          <a:xfrm>
            <a:off x="487440" y="2825640"/>
            <a:ext cx="2283840" cy="1029960"/>
            <a:chOff x="487440" y="2825640"/>
            <a:chExt cx="2283840" cy="1029960"/>
          </a:xfrm>
        </p:grpSpPr>
        <p:sp>
          <p:nvSpPr>
            <p:cNvPr id="226" name="Rectangle 8"/>
            <p:cNvSpPr/>
            <p:nvPr/>
          </p:nvSpPr>
          <p:spPr>
            <a:xfrm>
              <a:off x="608760" y="2948400"/>
              <a:ext cx="2162520" cy="90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73080" bIns="73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Ask clear, succinct, open and simple ques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9"/>
            <p:cNvSpPr/>
            <p:nvPr/>
          </p:nvSpPr>
          <p:spPr>
            <a:xfrm>
              <a:off x="487440" y="2825640"/>
              <a:ext cx="246240" cy="2462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8" name="Group 10" descr=""/>
          <p:cNvPicPr/>
          <p:nvPr/>
        </p:nvPicPr>
        <p:blipFill>
          <a:blip r:embed="rId1"/>
          <a:stretch/>
        </p:blipFill>
        <p:spPr>
          <a:xfrm>
            <a:off x="433440" y="4449600"/>
            <a:ext cx="2352600" cy="1109880"/>
          </a:xfrm>
          <a:prstGeom prst="rect">
            <a:avLst/>
          </a:prstGeom>
          <a:ln w="0">
            <a:noFill/>
          </a:ln>
        </p:spPr>
      </p:pic>
      <p:sp>
        <p:nvSpPr>
          <p:cNvPr id="229" name="Freeform 13"/>
          <p:cNvSpPr/>
          <p:nvPr/>
        </p:nvSpPr>
        <p:spPr>
          <a:xfrm>
            <a:off x="2765520" y="1343160"/>
            <a:ext cx="5632200" cy="3286080"/>
          </a:xfrm>
          <a:custGeom>
            <a:avLst/>
            <a:gdLst>
              <a:gd name="textAreaLeft" fmla="*/ 0 w 5632200"/>
              <a:gd name="textAreaRight" fmla="*/ 5632200 w 5632200"/>
              <a:gd name="textAreaTop" fmla="*/ 0 h 3286080"/>
              <a:gd name="textAreaBottom" fmla="*/ 3286440 h 3286080"/>
            </a:gdLst>
            <a:ahLst/>
            <a:rect l="textAreaLeft" t="textAreaTop" r="textAreaRight" b="textAreaBottom"/>
            <a:pathLst>
              <a:path w="3477" h="2142">
                <a:moveTo>
                  <a:pt x="0" y="2142"/>
                </a:moveTo>
                <a:lnTo>
                  <a:pt x="246" y="0"/>
                </a:lnTo>
                <a:lnTo>
                  <a:pt x="347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14"/>
          <p:cNvSpPr/>
          <p:nvPr/>
        </p:nvSpPr>
        <p:spPr>
          <a:xfrm>
            <a:off x="2776680" y="5538960"/>
            <a:ext cx="5632200" cy="1126800"/>
          </a:xfrm>
          <a:custGeom>
            <a:avLst/>
            <a:gdLst>
              <a:gd name="textAreaLeft" fmla="*/ 0 w 5632200"/>
              <a:gd name="textAreaRight" fmla="*/ 5632200 w 5632200"/>
              <a:gd name="textAreaTop" fmla="*/ 0 h 1126800"/>
              <a:gd name="textAreaBottom" fmla="*/ 1127160 h 1126800"/>
            </a:gdLst>
            <a:ahLst/>
            <a:rect l="textAreaLeft" t="textAreaTop" r="textAreaRight" b="textAreaBottom"/>
            <a:pathLst>
              <a:path w="3477" h="562">
                <a:moveTo>
                  <a:pt x="0" y="0"/>
                </a:moveTo>
                <a:lnTo>
                  <a:pt x="351" y="555"/>
                </a:lnTo>
                <a:lnTo>
                  <a:pt x="3477" y="56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106200" y="511200"/>
            <a:ext cx="8207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Calibri"/>
              </a:rPr>
              <a:t>KEY STEPS IN AN EFFECTIVE INTER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1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10D5-EA59-4E17-BFA5-66721FCA58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2133720" y="2895480"/>
            <a:ext cx="5087880" cy="19814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2216160" y="1309680"/>
            <a:ext cx="5479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ntroduction and over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elephone interviews and challe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Calibri"/>
              </a:rPr>
              <a:t>Management interview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92232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alibri"/>
                <a:ea typeface="Arial"/>
              </a:rPr>
              <a:t>Schedu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92232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alibri"/>
                <a:ea typeface="Arial"/>
              </a:rPr>
              <a:t>Confir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92232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alibri"/>
                <a:ea typeface="Arial"/>
              </a:rPr>
              <a:t>Ru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92232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alibri"/>
                <a:ea typeface="Arial"/>
              </a:rPr>
              <a:t>Sco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92232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nclusions and ques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0" y="511200"/>
            <a:ext cx="9144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AGE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AF74-9935-4480-909D-AB48E98793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3"/>
          <p:cNvGrpSpPr/>
          <p:nvPr/>
        </p:nvGrpSpPr>
        <p:grpSpPr>
          <a:xfrm>
            <a:off x="247680" y="1144440"/>
            <a:ext cx="2071440" cy="803160"/>
            <a:chOff x="247680" y="1144440"/>
            <a:chExt cx="2071440" cy="803160"/>
          </a:xfrm>
        </p:grpSpPr>
        <p:sp>
          <p:nvSpPr>
            <p:cNvPr id="238" name="Freeform 4"/>
            <p:cNvSpPr/>
            <p:nvPr/>
          </p:nvSpPr>
          <p:spPr>
            <a:xfrm>
              <a:off x="247680" y="1419840"/>
              <a:ext cx="92520" cy="27684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276840"/>
                <a:gd name="textAreaBottom" fmla="*/ 277200 h 276840"/>
              </a:gdLst>
              <a:ahLst/>
              <a:rect l="textAreaLeft" t="textAreaTop" r="textAreaRight" b="textAreaBottom"/>
              <a:pathLst>
                <a:path w="1244" h="576">
                  <a:moveTo>
                    <a:pt x="0" y="0"/>
                  </a:moveTo>
                  <a:lnTo>
                    <a:pt x="1140" y="0"/>
                  </a:lnTo>
                  <a:lnTo>
                    <a:pt x="1244" y="288"/>
                  </a:lnTo>
                  <a:lnTo>
                    <a:pt x="1140" y="576"/>
                  </a:lnTo>
                  <a:lnTo>
                    <a:pt x="0" y="576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5"/>
            <p:cNvSpPr/>
            <p:nvPr/>
          </p:nvSpPr>
          <p:spPr>
            <a:xfrm>
              <a:off x="305640" y="1144440"/>
              <a:ext cx="2013480" cy="8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Schedu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6"/>
          <p:cNvGrpSpPr/>
          <p:nvPr/>
        </p:nvGrpSpPr>
        <p:grpSpPr>
          <a:xfrm>
            <a:off x="2314440" y="1144440"/>
            <a:ext cx="2084040" cy="803160"/>
            <a:chOff x="2314440" y="1144440"/>
            <a:chExt cx="2084040" cy="803160"/>
          </a:xfrm>
        </p:grpSpPr>
        <p:sp>
          <p:nvSpPr>
            <p:cNvPr id="241" name="Freeform 7"/>
            <p:cNvSpPr/>
            <p:nvPr/>
          </p:nvSpPr>
          <p:spPr>
            <a:xfrm>
              <a:off x="2314440" y="1419840"/>
              <a:ext cx="92160" cy="2768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276840"/>
                <a:gd name="textAreaBottom" fmla="*/ 277200 h 276840"/>
              </a:gdLst>
              <a:ahLst/>
              <a:rect l="textAreaLeft" t="textAreaTop" r="textAreaRight" b="textAreaBottom"/>
              <a:pathLst>
                <a:path w="1250" h="576">
                  <a:moveTo>
                    <a:pt x="0" y="0"/>
                  </a:moveTo>
                  <a:lnTo>
                    <a:pt x="1146" y="0"/>
                  </a:lnTo>
                  <a:lnTo>
                    <a:pt x="1250" y="288"/>
                  </a:lnTo>
                  <a:lnTo>
                    <a:pt x="1146" y="576"/>
                  </a:lnTo>
                  <a:lnTo>
                    <a:pt x="0" y="576"/>
                  </a:lnTo>
                  <a:lnTo>
                    <a:pt x="104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8"/>
            <p:cNvSpPr/>
            <p:nvPr/>
          </p:nvSpPr>
          <p:spPr>
            <a:xfrm>
              <a:off x="2561040" y="1144440"/>
              <a:ext cx="1837440" cy="8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onfirm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9"/>
          <p:cNvGrpSpPr/>
          <p:nvPr/>
        </p:nvGrpSpPr>
        <p:grpSpPr>
          <a:xfrm>
            <a:off x="4397400" y="1144440"/>
            <a:ext cx="2084040" cy="803160"/>
            <a:chOff x="4397400" y="1144440"/>
            <a:chExt cx="2084040" cy="803160"/>
          </a:xfrm>
        </p:grpSpPr>
        <p:sp>
          <p:nvSpPr>
            <p:cNvPr id="244" name="Freeform 10"/>
            <p:cNvSpPr/>
            <p:nvPr/>
          </p:nvSpPr>
          <p:spPr>
            <a:xfrm>
              <a:off x="4397400" y="1419840"/>
              <a:ext cx="92160" cy="2768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276840"/>
                <a:gd name="textAreaBottom" fmla="*/ 277200 h 276840"/>
              </a:gdLst>
              <a:ahLst/>
              <a:rect l="textAreaLeft" t="textAreaTop" r="textAreaRight" b="textAreaBottom"/>
              <a:pathLst>
                <a:path w="1250" h="576">
                  <a:moveTo>
                    <a:pt x="0" y="0"/>
                  </a:moveTo>
                  <a:lnTo>
                    <a:pt x="1146" y="0"/>
                  </a:lnTo>
                  <a:lnTo>
                    <a:pt x="1250" y="288"/>
                  </a:lnTo>
                  <a:lnTo>
                    <a:pt x="1146" y="576"/>
                  </a:lnTo>
                  <a:lnTo>
                    <a:pt x="0" y="576"/>
                  </a:lnTo>
                  <a:lnTo>
                    <a:pt x="104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1"/>
            <p:cNvSpPr/>
            <p:nvPr/>
          </p:nvSpPr>
          <p:spPr>
            <a:xfrm>
              <a:off x="4644000" y="1144440"/>
              <a:ext cx="1837440" cy="8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onduc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2"/>
          <p:cNvGrpSpPr/>
          <p:nvPr/>
        </p:nvGrpSpPr>
        <p:grpSpPr>
          <a:xfrm>
            <a:off x="6469200" y="1144440"/>
            <a:ext cx="2085480" cy="803160"/>
            <a:chOff x="6469200" y="1144440"/>
            <a:chExt cx="2085480" cy="803160"/>
          </a:xfrm>
        </p:grpSpPr>
        <p:sp>
          <p:nvSpPr>
            <p:cNvPr id="247" name="Freeform 13"/>
            <p:cNvSpPr/>
            <p:nvPr/>
          </p:nvSpPr>
          <p:spPr>
            <a:xfrm>
              <a:off x="6469200" y="1419840"/>
              <a:ext cx="92160" cy="2768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276840"/>
                <a:gd name="textAreaBottom" fmla="*/ 277200 h 276840"/>
              </a:gdLst>
              <a:ahLst/>
              <a:rect l="textAreaLeft" t="textAreaTop" r="textAreaRight" b="textAreaBottom"/>
              <a:pathLst>
                <a:path w="1250" h="576">
                  <a:moveTo>
                    <a:pt x="0" y="0"/>
                  </a:moveTo>
                  <a:lnTo>
                    <a:pt x="1146" y="0"/>
                  </a:lnTo>
                  <a:lnTo>
                    <a:pt x="1250" y="288"/>
                  </a:lnTo>
                  <a:lnTo>
                    <a:pt x="1146" y="576"/>
                  </a:lnTo>
                  <a:lnTo>
                    <a:pt x="0" y="576"/>
                  </a:lnTo>
                  <a:lnTo>
                    <a:pt x="104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4"/>
            <p:cNvSpPr/>
            <p:nvPr/>
          </p:nvSpPr>
          <p:spPr>
            <a:xfrm>
              <a:off x="6716160" y="1144440"/>
              <a:ext cx="1838520" cy="8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Scoring and review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Rectangle 15"/>
          <p:cNvSpPr/>
          <p:nvPr/>
        </p:nvSpPr>
        <p:spPr>
          <a:xfrm>
            <a:off x="378000" y="2144880"/>
            <a:ext cx="178272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35000" indent="-13356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ime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06360" indent="-15228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Avoid overbooking or not allowing enough time (min 6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06360" indent="-152280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minu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06360" indent="-15228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356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As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3560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356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ord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6"/>
          <p:cNvSpPr/>
          <p:nvPr/>
        </p:nvSpPr>
        <p:spPr>
          <a:xfrm>
            <a:off x="2620800" y="2144880"/>
            <a:ext cx="178308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35000" indent="-13356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Ensures project integrity and assurance is maintain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3560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356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Key reminder (especially if scheduled in  adva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356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356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Preparation (and review of working session intervie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356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356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Call at least 5 (10) minutes early to maximize the time wind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7"/>
          <p:cNvSpPr/>
          <p:nvPr/>
        </p:nvSpPr>
        <p:spPr>
          <a:xfrm>
            <a:off x="4710240" y="2144880"/>
            <a:ext cx="1785960" cy="19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35000" indent="-13356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Arial"/>
              </a:rPr>
              <a:t>Techn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356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356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Arial"/>
              </a:rPr>
              <a:t>Questio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356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356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Arial"/>
              </a:rPr>
              <a:t>Time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356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356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Arial"/>
              </a:rPr>
              <a:t>Interest, eng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8"/>
          <p:cNvSpPr/>
          <p:nvPr/>
        </p:nvSpPr>
        <p:spPr>
          <a:xfrm>
            <a:off x="6792840" y="2144880"/>
            <a:ext cx="1785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35000" indent="-13356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Focus next 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3"/>
          <p:cNvGrpSpPr/>
          <p:nvPr/>
        </p:nvGrpSpPr>
        <p:grpSpPr>
          <a:xfrm>
            <a:off x="243000" y="1071720"/>
            <a:ext cx="2215800" cy="914400"/>
            <a:chOff x="243000" y="1071720"/>
            <a:chExt cx="2215800" cy="914400"/>
          </a:xfrm>
        </p:grpSpPr>
        <p:sp>
          <p:nvSpPr>
            <p:cNvPr id="254" name="Freeform 4"/>
            <p:cNvSpPr/>
            <p:nvPr/>
          </p:nvSpPr>
          <p:spPr>
            <a:xfrm>
              <a:off x="243000" y="1071720"/>
              <a:ext cx="2215800" cy="914400"/>
            </a:xfrm>
            <a:custGeom>
              <a:avLst/>
              <a:gdLst>
                <a:gd name="textAreaLeft" fmla="*/ 0 w 2215800"/>
                <a:gd name="textAreaRight" fmla="*/ 2215800 w 22158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1244" h="576">
                  <a:moveTo>
                    <a:pt x="0" y="0"/>
                  </a:moveTo>
                  <a:lnTo>
                    <a:pt x="1140" y="0"/>
                  </a:lnTo>
                  <a:lnTo>
                    <a:pt x="1244" y="288"/>
                  </a:lnTo>
                  <a:lnTo>
                    <a:pt x="1140" y="576"/>
                  </a:lnTo>
                  <a:lnTo>
                    <a:pt x="0" y="576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5"/>
            <p:cNvSpPr/>
            <p:nvPr/>
          </p:nvSpPr>
          <p:spPr>
            <a:xfrm>
              <a:off x="299880" y="1122480"/>
              <a:ext cx="197352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Schedu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6"/>
          <p:cNvGrpSpPr/>
          <p:nvPr/>
        </p:nvGrpSpPr>
        <p:grpSpPr>
          <a:xfrm>
            <a:off x="2268360" y="1071720"/>
            <a:ext cx="2225520" cy="914400"/>
            <a:chOff x="2268360" y="1071720"/>
            <a:chExt cx="2225520" cy="914400"/>
          </a:xfrm>
        </p:grpSpPr>
        <p:sp>
          <p:nvSpPr>
            <p:cNvPr id="257" name="Freeform 7"/>
            <p:cNvSpPr/>
            <p:nvPr/>
          </p:nvSpPr>
          <p:spPr>
            <a:xfrm>
              <a:off x="2268360" y="1071720"/>
              <a:ext cx="2225520" cy="914400"/>
            </a:xfrm>
            <a:custGeom>
              <a:avLst/>
              <a:gdLst>
                <a:gd name="textAreaLeft" fmla="*/ 0 w 2225520"/>
                <a:gd name="textAreaRight" fmla="*/ 2225880 w 22255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1250" h="576">
                  <a:moveTo>
                    <a:pt x="0" y="0"/>
                  </a:moveTo>
                  <a:lnTo>
                    <a:pt x="1146" y="0"/>
                  </a:lnTo>
                  <a:lnTo>
                    <a:pt x="1250" y="288"/>
                  </a:lnTo>
                  <a:lnTo>
                    <a:pt x="1146" y="576"/>
                  </a:lnTo>
                  <a:lnTo>
                    <a:pt x="0" y="576"/>
                  </a:lnTo>
                  <a:lnTo>
                    <a:pt x="104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8"/>
            <p:cNvSpPr/>
            <p:nvPr/>
          </p:nvSpPr>
          <p:spPr>
            <a:xfrm>
              <a:off x="2509920" y="1122480"/>
              <a:ext cx="18003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onfirm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9"/>
          <p:cNvGrpSpPr/>
          <p:nvPr/>
        </p:nvGrpSpPr>
        <p:grpSpPr>
          <a:xfrm>
            <a:off x="4309920" y="1071720"/>
            <a:ext cx="2225520" cy="914400"/>
            <a:chOff x="4309920" y="1071720"/>
            <a:chExt cx="2225520" cy="914400"/>
          </a:xfrm>
        </p:grpSpPr>
        <p:sp>
          <p:nvSpPr>
            <p:cNvPr id="260" name="Freeform 10"/>
            <p:cNvSpPr/>
            <p:nvPr/>
          </p:nvSpPr>
          <p:spPr>
            <a:xfrm>
              <a:off x="4309920" y="1071720"/>
              <a:ext cx="2225520" cy="914400"/>
            </a:xfrm>
            <a:custGeom>
              <a:avLst/>
              <a:gdLst>
                <a:gd name="textAreaLeft" fmla="*/ 0 w 2225520"/>
                <a:gd name="textAreaRight" fmla="*/ 2225880 w 22255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1250" h="576">
                  <a:moveTo>
                    <a:pt x="0" y="0"/>
                  </a:moveTo>
                  <a:lnTo>
                    <a:pt x="1146" y="0"/>
                  </a:lnTo>
                  <a:lnTo>
                    <a:pt x="1250" y="288"/>
                  </a:lnTo>
                  <a:lnTo>
                    <a:pt x="1146" y="576"/>
                  </a:lnTo>
                  <a:lnTo>
                    <a:pt x="0" y="576"/>
                  </a:lnTo>
                  <a:lnTo>
                    <a:pt x="104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1"/>
            <p:cNvSpPr/>
            <p:nvPr/>
          </p:nvSpPr>
          <p:spPr>
            <a:xfrm>
              <a:off x="4551480" y="1122480"/>
              <a:ext cx="18003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onduc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Group 12"/>
          <p:cNvGrpSpPr/>
          <p:nvPr/>
        </p:nvGrpSpPr>
        <p:grpSpPr>
          <a:xfrm>
            <a:off x="6340320" y="1071720"/>
            <a:ext cx="2226960" cy="914400"/>
            <a:chOff x="6340320" y="1071720"/>
            <a:chExt cx="2226960" cy="914400"/>
          </a:xfrm>
        </p:grpSpPr>
        <p:sp>
          <p:nvSpPr>
            <p:cNvPr id="263" name="Freeform 13"/>
            <p:cNvSpPr/>
            <p:nvPr/>
          </p:nvSpPr>
          <p:spPr>
            <a:xfrm>
              <a:off x="6340320" y="1071720"/>
              <a:ext cx="2226960" cy="914400"/>
            </a:xfrm>
            <a:custGeom>
              <a:avLst/>
              <a:gdLst>
                <a:gd name="textAreaLeft" fmla="*/ 0 w 2226960"/>
                <a:gd name="textAreaRight" fmla="*/ 2227320 w 222696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1250" h="576">
                  <a:moveTo>
                    <a:pt x="0" y="0"/>
                  </a:moveTo>
                  <a:lnTo>
                    <a:pt x="1146" y="0"/>
                  </a:lnTo>
                  <a:lnTo>
                    <a:pt x="1250" y="288"/>
                  </a:lnTo>
                  <a:lnTo>
                    <a:pt x="1146" y="576"/>
                  </a:lnTo>
                  <a:lnTo>
                    <a:pt x="0" y="576"/>
                  </a:lnTo>
                  <a:lnTo>
                    <a:pt x="104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4"/>
            <p:cNvSpPr/>
            <p:nvPr/>
          </p:nvSpPr>
          <p:spPr>
            <a:xfrm>
              <a:off x="6582240" y="1122480"/>
              <a:ext cx="18014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Scoring and review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Rectangle 26"/>
          <p:cNvSpPr/>
          <p:nvPr/>
        </p:nvSpPr>
        <p:spPr>
          <a:xfrm>
            <a:off x="77760" y="235080"/>
            <a:ext cx="90662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PERFORMING MANAGEMENT INTERVIEWS EFFICIENTLY INVOLVES BEST PRACTICES IN FOUR MAIN A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3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AD87-22EB-4CA2-A271-3D919D61AF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AutoShape 4"/>
          <p:cNvSpPr/>
          <p:nvPr/>
        </p:nvSpPr>
        <p:spPr>
          <a:xfrm>
            <a:off x="203040" y="1028880"/>
            <a:ext cx="8599680" cy="5405400"/>
          </a:xfrm>
          <a:prstGeom prst="foldedCorner">
            <a:avLst>
              <a:gd name="adj" fmla="val 14222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488880" y="1204920"/>
            <a:ext cx="800280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44360" indent="-14292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Interviewee Posi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4360" indent="-14292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4360" indent="-14292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lant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4360" indent="-14292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4360" indent="-14292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If no plant manager, then ask for the following pos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4360" indent="-14292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roduction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4360" indent="-14292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VP of manufacturing/oper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4360" indent="-14292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4360" indent="-14292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If no plant manag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4360" indent="-14292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I am looking to speak to the person who supervises/manages the production processes at the fir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4360" indent="-14292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4360" indent="-14292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ositions which are not accept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4360" indent="-14292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L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4360" indent="-14292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4360" indent="-14292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echnici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4360" indent="-14292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4360" indent="-14292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4360" indent="-14292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6"/>
          <p:cNvSpPr/>
          <p:nvPr/>
        </p:nvSpPr>
        <p:spPr>
          <a:xfrm>
            <a:off x="77760" y="235080"/>
            <a:ext cx="90662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INTERVIEWERS MUST TEST TO ENSURE IT IS THE APPROPRIATE PERSON TO INTER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026A-D71B-4F37-9B91-9A2E9E1A59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3"/>
          <p:cNvSpPr/>
          <p:nvPr/>
        </p:nvSpPr>
        <p:spPr>
          <a:xfrm>
            <a:off x="407880" y="1152360"/>
            <a:ext cx="8148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idence is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Firm yet pol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ontrol the situation without dom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Mention the contacts/ link from the onset if they will recogn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rd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Use key phrases but do NOT describe th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In the past, University of London/Cambridge worked we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Be sure to represent yourself clea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6"/>
          <p:cNvSpPr/>
          <p:nvPr/>
        </p:nvSpPr>
        <p:spPr>
          <a:xfrm>
            <a:off x="77760" y="235080"/>
            <a:ext cx="90662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SCHEDULING THE INTERVIEWS MEANS GETTING PAST THE GATEKEE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GB" sz="2200" spc="-1" strike="noStrike">
                <a:solidFill>
                  <a:srgbClr val="5f5f5f"/>
                </a:solidFill>
                <a:latin typeface="Calibri"/>
              </a:rPr>
              <a:t>(THE REAL MANAGERS) </a:t>
            </a: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(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2B77-E4E0-4AEE-AEF7-FAC6480B6C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235080" y="1154160"/>
            <a:ext cx="81468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ke friends: avoid making enemies and dooming ch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Introducing yourself to the switchboard: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Be friendly, get his or her name for next time: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Transfer to voice mail: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Leave a message :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Get a better time: Y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y switchboard tricks for the heavy guard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atch out for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Too much information: asking/ gi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Heavy breathing into the head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The surprise answer respons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The “sales  pitch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6"/>
          <p:cNvSpPr/>
          <p:nvPr/>
        </p:nvSpPr>
        <p:spPr>
          <a:xfrm>
            <a:off x="77760" y="235080"/>
            <a:ext cx="90662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SCHEDULING THE INTERVIEWS MEANS GETTING PAST THE GATEKEEP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GB" sz="2200" spc="-1" strike="noStrike">
                <a:solidFill>
                  <a:srgbClr val="5f5f5f"/>
                </a:solidFill>
                <a:latin typeface="Calibri"/>
              </a:rPr>
              <a:t>(THE REAL MANAGERS) </a:t>
            </a: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(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2522-8F3F-4695-9904-EE748A1907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6"/>
          <p:cNvSpPr/>
          <p:nvPr/>
        </p:nvSpPr>
        <p:spPr>
          <a:xfrm>
            <a:off x="77760" y="235080"/>
            <a:ext cx="90662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SCHEDULING THE INTERVIEWS: MOVING ON TO THE PLANT MANAGER INVOLVES KEY PHR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76320" y="1371600"/>
            <a:ext cx="79246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lvl="1" marL="18252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Be clear about benefits, goals and scope of th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252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252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Understand his busy sched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252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252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Get a better time, or a better cont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252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252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Remind him/her this is costles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AND CONFIDENTIA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on his/her part (the only cost to you is a good conversation…..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252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252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Wordage still matter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54AE-89E5-4AF8-9528-271C78E712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101520" y="1378080"/>
            <a:ext cx="8148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 prepared to be rejected, t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all again, at a different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Get the name from a different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Remember to solicit “your experiences” versus questions for a research project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ce he commits to a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Thank him, confirm the interview via email or f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You MUST send the confirmation letter via email on the spot as well, as you can NOT conduct an interview without the manager receiving the l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end a reminder a day or two before the int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73080" y="247680"/>
            <a:ext cx="90709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KNOWLEDGE OF YOUR PURPOSE AND THE MANAGERS BENEFITS ARE KEYS TO SCHEDULING WITH THE PLANT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B8C9-6B5D-4212-8741-0B57F2C66D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3"/>
          <p:cNvSpPr/>
          <p:nvPr/>
        </p:nvSpPr>
        <p:spPr>
          <a:xfrm>
            <a:off x="131760" y="1098720"/>
            <a:ext cx="8147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Key reminder for manager, especially if scheduled way in advance (or as a throwawa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Have personal details to avoid the switchboard/gatekeeper: direct extension, email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mail or fax, depending on their resour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nsure YOUR contact information is no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end confirmation letter via email or fax that same business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If more than 2-3 days, send a 24 hour reminder to th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all 5-10 minutes early to maximize the tim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6"/>
          <p:cNvSpPr/>
          <p:nvPr/>
        </p:nvSpPr>
        <p:spPr>
          <a:xfrm>
            <a:off x="77760" y="617400"/>
            <a:ext cx="906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CONFIRMING THE INTERVIEW IS NECESSARY AS W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47BE-F549-4F35-A048-EEA772AD50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2151000" y="1438200"/>
            <a:ext cx="5087880" cy="77652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216160" y="1309680"/>
            <a:ext cx="5479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Calibri"/>
              </a:rPr>
              <a:t>Introduction and over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elephone interviews and challe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nagement interview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92232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Arial"/>
              </a:rPr>
              <a:t>Schedu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92232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Arial"/>
              </a:rPr>
              <a:t>Confir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92232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Arial"/>
              </a:rPr>
              <a:t>Ru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92232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Arial"/>
              </a:rPr>
              <a:t>Sco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92232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nclusions and ques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0" y="511200"/>
            <a:ext cx="9144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AGE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6039-7E3C-4E89-8165-BBA1BA3A17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6"/>
          <p:cNvSpPr/>
          <p:nvPr/>
        </p:nvSpPr>
        <p:spPr>
          <a:xfrm>
            <a:off x="3152880" y="0"/>
            <a:ext cx="3052800" cy="507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" hidden="1"/>
          <p:cNvSpPr/>
          <p:nvPr/>
        </p:nvSpPr>
        <p:spPr>
          <a:xfrm>
            <a:off x="0" y="-101520"/>
            <a:ext cx="1620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3"/>
          <p:cNvSpPr/>
          <p:nvPr/>
        </p:nvSpPr>
        <p:spPr>
          <a:xfrm>
            <a:off x="176040" y="1379520"/>
            <a:ext cx="4164120" cy="4097520"/>
          </a:xfrm>
          <a:prstGeom prst="roundRect">
            <a:avLst>
              <a:gd name="adj" fmla="val 7435"/>
            </a:avLst>
          </a:prstGeom>
          <a:solidFill>
            <a:srgbClr val="f8f8f8"/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4660920" y="4834080"/>
            <a:ext cx="427032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hat is the company’s attitude towards and process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Attracting and retaining tale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Recognising and rewarding performanc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Managing under-performer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6"/>
          <p:cNvSpPr/>
          <p:nvPr/>
        </p:nvSpPr>
        <p:spPr>
          <a:xfrm flipV="1">
            <a:off x="1182600" y="1563840"/>
            <a:ext cx="2151000" cy="2071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7"/>
          <p:cNvSpPr/>
          <p:nvPr/>
        </p:nvSpPr>
        <p:spPr>
          <a:xfrm flipV="1">
            <a:off x="236520" y="3134520"/>
            <a:ext cx="2151000" cy="2071800"/>
          </a:xfrm>
          <a:prstGeom prst="ellipse">
            <a:avLst/>
          </a:prstGeom>
          <a:solidFill>
            <a:srgbClr val="5f5f5f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8"/>
          <p:cNvSpPr/>
          <p:nvPr/>
        </p:nvSpPr>
        <p:spPr>
          <a:xfrm flipV="1">
            <a:off x="2128680" y="3134520"/>
            <a:ext cx="2151360" cy="20718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9"/>
          <p:cNvSpPr/>
          <p:nvPr/>
        </p:nvSpPr>
        <p:spPr>
          <a:xfrm flipV="1">
            <a:off x="236520" y="3134520"/>
            <a:ext cx="2151000" cy="2071800"/>
          </a:xfrm>
          <a:prstGeom prst="ellipse">
            <a:avLst/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0"/>
          <p:cNvSpPr/>
          <p:nvPr/>
        </p:nvSpPr>
        <p:spPr>
          <a:xfrm flipV="1">
            <a:off x="2128680" y="3134520"/>
            <a:ext cx="2151360" cy="2071800"/>
          </a:xfrm>
          <a:prstGeom prst="ellipse">
            <a:avLst/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11"/>
          <p:cNvSpPr/>
          <p:nvPr/>
        </p:nvSpPr>
        <p:spPr>
          <a:xfrm flipV="1">
            <a:off x="1182600" y="1563840"/>
            <a:ext cx="2151000" cy="2071440"/>
          </a:xfrm>
          <a:prstGeom prst="ellipse">
            <a:avLst/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2"/>
          <p:cNvSpPr/>
          <p:nvPr/>
        </p:nvSpPr>
        <p:spPr>
          <a:xfrm>
            <a:off x="322200" y="4052520"/>
            <a:ext cx="17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Talen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3"/>
          <p:cNvSpPr/>
          <p:nvPr/>
        </p:nvSpPr>
        <p:spPr>
          <a:xfrm>
            <a:off x="2462040" y="3809160"/>
            <a:ext cx="16923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Performance monitoring and target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4"/>
          <p:cNvSpPr/>
          <p:nvPr/>
        </p:nvSpPr>
        <p:spPr>
          <a:xfrm>
            <a:off x="1414440" y="2315520"/>
            <a:ext cx="16923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Lean shop floor opera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15"/>
          <p:cNvSpPr/>
          <p:nvPr/>
        </p:nvSpPr>
        <p:spPr>
          <a:xfrm rot="3663000">
            <a:off x="2597400" y="2873880"/>
            <a:ext cx="245880" cy="1028520"/>
          </a:xfrm>
          <a:custGeom>
            <a:avLst/>
            <a:gdLst>
              <a:gd name="textAreaLeft" fmla="*/ 0 w 245880"/>
              <a:gd name="textAreaRight" fmla="*/ 246240 w 24588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389" h="1152">
                <a:moveTo>
                  <a:pt x="197" y="0"/>
                </a:moveTo>
                <a:lnTo>
                  <a:pt x="152" y="66"/>
                </a:lnTo>
                <a:lnTo>
                  <a:pt x="114" y="127"/>
                </a:lnTo>
                <a:lnTo>
                  <a:pt x="68" y="223"/>
                </a:lnTo>
                <a:lnTo>
                  <a:pt x="47" y="285"/>
                </a:lnTo>
                <a:lnTo>
                  <a:pt x="27" y="355"/>
                </a:lnTo>
                <a:lnTo>
                  <a:pt x="8" y="459"/>
                </a:lnTo>
                <a:lnTo>
                  <a:pt x="0" y="570"/>
                </a:lnTo>
                <a:lnTo>
                  <a:pt x="6" y="688"/>
                </a:lnTo>
                <a:lnTo>
                  <a:pt x="29" y="802"/>
                </a:lnTo>
                <a:lnTo>
                  <a:pt x="51" y="873"/>
                </a:lnTo>
                <a:lnTo>
                  <a:pt x="66" y="916"/>
                </a:lnTo>
                <a:lnTo>
                  <a:pt x="90" y="973"/>
                </a:lnTo>
                <a:lnTo>
                  <a:pt x="120" y="1032"/>
                </a:lnTo>
                <a:lnTo>
                  <a:pt x="152" y="1089"/>
                </a:lnTo>
                <a:lnTo>
                  <a:pt x="193" y="1152"/>
                </a:lnTo>
                <a:lnTo>
                  <a:pt x="240" y="1089"/>
                </a:lnTo>
                <a:lnTo>
                  <a:pt x="278" y="1024"/>
                </a:lnTo>
                <a:lnTo>
                  <a:pt x="313" y="948"/>
                </a:lnTo>
                <a:lnTo>
                  <a:pt x="348" y="856"/>
                </a:lnTo>
                <a:lnTo>
                  <a:pt x="374" y="742"/>
                </a:lnTo>
                <a:lnTo>
                  <a:pt x="383" y="673"/>
                </a:lnTo>
                <a:lnTo>
                  <a:pt x="389" y="592"/>
                </a:lnTo>
                <a:lnTo>
                  <a:pt x="385" y="484"/>
                </a:lnTo>
                <a:lnTo>
                  <a:pt x="365" y="356"/>
                </a:lnTo>
                <a:lnTo>
                  <a:pt x="326" y="231"/>
                </a:lnTo>
                <a:lnTo>
                  <a:pt x="278" y="130"/>
                </a:lnTo>
                <a:lnTo>
                  <a:pt x="197" y="0"/>
                </a:lnTo>
                <a:close/>
              </a:path>
            </a:pathLst>
          </a:custGeom>
          <a:solidFill>
            <a:srgbClr val="b2b2b2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16"/>
          <p:cNvSpPr/>
          <p:nvPr/>
        </p:nvSpPr>
        <p:spPr>
          <a:xfrm rot="17973600">
            <a:off x="1664640" y="2873880"/>
            <a:ext cx="245880" cy="1028520"/>
          </a:xfrm>
          <a:custGeom>
            <a:avLst/>
            <a:gdLst>
              <a:gd name="textAreaLeft" fmla="*/ 0 w 245880"/>
              <a:gd name="textAreaRight" fmla="*/ 246240 w 24588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389" h="1152">
                <a:moveTo>
                  <a:pt x="197" y="0"/>
                </a:moveTo>
                <a:lnTo>
                  <a:pt x="152" y="66"/>
                </a:lnTo>
                <a:lnTo>
                  <a:pt x="114" y="127"/>
                </a:lnTo>
                <a:lnTo>
                  <a:pt x="68" y="223"/>
                </a:lnTo>
                <a:lnTo>
                  <a:pt x="47" y="285"/>
                </a:lnTo>
                <a:lnTo>
                  <a:pt x="27" y="355"/>
                </a:lnTo>
                <a:lnTo>
                  <a:pt x="8" y="459"/>
                </a:lnTo>
                <a:lnTo>
                  <a:pt x="0" y="570"/>
                </a:lnTo>
                <a:lnTo>
                  <a:pt x="6" y="688"/>
                </a:lnTo>
                <a:lnTo>
                  <a:pt x="29" y="802"/>
                </a:lnTo>
                <a:lnTo>
                  <a:pt x="51" y="873"/>
                </a:lnTo>
                <a:lnTo>
                  <a:pt x="66" y="916"/>
                </a:lnTo>
                <a:lnTo>
                  <a:pt x="90" y="973"/>
                </a:lnTo>
                <a:lnTo>
                  <a:pt x="120" y="1032"/>
                </a:lnTo>
                <a:lnTo>
                  <a:pt x="152" y="1089"/>
                </a:lnTo>
                <a:lnTo>
                  <a:pt x="193" y="1152"/>
                </a:lnTo>
                <a:lnTo>
                  <a:pt x="240" y="1089"/>
                </a:lnTo>
                <a:lnTo>
                  <a:pt x="278" y="1024"/>
                </a:lnTo>
                <a:lnTo>
                  <a:pt x="313" y="948"/>
                </a:lnTo>
                <a:lnTo>
                  <a:pt x="348" y="856"/>
                </a:lnTo>
                <a:lnTo>
                  <a:pt x="374" y="742"/>
                </a:lnTo>
                <a:lnTo>
                  <a:pt x="383" y="673"/>
                </a:lnTo>
                <a:lnTo>
                  <a:pt x="389" y="592"/>
                </a:lnTo>
                <a:lnTo>
                  <a:pt x="385" y="484"/>
                </a:lnTo>
                <a:lnTo>
                  <a:pt x="365" y="356"/>
                </a:lnTo>
                <a:lnTo>
                  <a:pt x="326" y="231"/>
                </a:lnTo>
                <a:lnTo>
                  <a:pt x="278" y="130"/>
                </a:lnTo>
                <a:lnTo>
                  <a:pt x="197" y="0"/>
                </a:lnTo>
                <a:close/>
              </a:path>
            </a:pathLst>
          </a:custGeom>
          <a:solidFill>
            <a:srgbClr val="b2b2b2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17"/>
          <p:cNvSpPr/>
          <p:nvPr/>
        </p:nvSpPr>
        <p:spPr>
          <a:xfrm rot="10800000">
            <a:off x="2131920" y="3676320"/>
            <a:ext cx="246240" cy="1028520"/>
          </a:xfrm>
          <a:custGeom>
            <a:avLst/>
            <a:gdLst>
              <a:gd name="textAreaLeft" fmla="*/ 0 w 246240"/>
              <a:gd name="textAreaRight" fmla="*/ 246600 w 24624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389" h="1152">
                <a:moveTo>
                  <a:pt x="197" y="0"/>
                </a:moveTo>
                <a:lnTo>
                  <a:pt x="152" y="66"/>
                </a:lnTo>
                <a:lnTo>
                  <a:pt x="114" y="127"/>
                </a:lnTo>
                <a:lnTo>
                  <a:pt x="68" y="223"/>
                </a:lnTo>
                <a:lnTo>
                  <a:pt x="47" y="285"/>
                </a:lnTo>
                <a:lnTo>
                  <a:pt x="27" y="355"/>
                </a:lnTo>
                <a:lnTo>
                  <a:pt x="8" y="459"/>
                </a:lnTo>
                <a:lnTo>
                  <a:pt x="0" y="570"/>
                </a:lnTo>
                <a:lnTo>
                  <a:pt x="6" y="688"/>
                </a:lnTo>
                <a:lnTo>
                  <a:pt x="29" y="802"/>
                </a:lnTo>
                <a:lnTo>
                  <a:pt x="51" y="873"/>
                </a:lnTo>
                <a:lnTo>
                  <a:pt x="66" y="916"/>
                </a:lnTo>
                <a:lnTo>
                  <a:pt x="90" y="973"/>
                </a:lnTo>
                <a:lnTo>
                  <a:pt x="120" y="1032"/>
                </a:lnTo>
                <a:lnTo>
                  <a:pt x="152" y="1089"/>
                </a:lnTo>
                <a:lnTo>
                  <a:pt x="193" y="1152"/>
                </a:lnTo>
                <a:lnTo>
                  <a:pt x="240" y="1089"/>
                </a:lnTo>
                <a:lnTo>
                  <a:pt x="278" y="1024"/>
                </a:lnTo>
                <a:lnTo>
                  <a:pt x="313" y="948"/>
                </a:lnTo>
                <a:lnTo>
                  <a:pt x="348" y="856"/>
                </a:lnTo>
                <a:lnTo>
                  <a:pt x="374" y="742"/>
                </a:lnTo>
                <a:lnTo>
                  <a:pt x="383" y="673"/>
                </a:lnTo>
                <a:lnTo>
                  <a:pt x="389" y="592"/>
                </a:lnTo>
                <a:lnTo>
                  <a:pt x="385" y="484"/>
                </a:lnTo>
                <a:lnTo>
                  <a:pt x="365" y="356"/>
                </a:lnTo>
                <a:lnTo>
                  <a:pt x="326" y="231"/>
                </a:lnTo>
                <a:lnTo>
                  <a:pt x="278" y="130"/>
                </a:lnTo>
                <a:lnTo>
                  <a:pt x="197" y="0"/>
                </a:lnTo>
                <a:close/>
              </a:path>
            </a:pathLst>
          </a:custGeom>
          <a:solidFill>
            <a:srgbClr val="5f5f5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8"/>
          <p:cNvSpPr/>
          <p:nvPr/>
        </p:nvSpPr>
        <p:spPr>
          <a:xfrm>
            <a:off x="4660920" y="1716120"/>
            <a:ext cx="427032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How many lean principles are being used and how effectively, e.g.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Just-in-tim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Level produc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Awarenes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9"/>
          <p:cNvSpPr/>
          <p:nvPr/>
        </p:nvSpPr>
        <p:spPr>
          <a:xfrm>
            <a:off x="4584600" y="1716120"/>
            <a:ext cx="0" cy="12463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0"/>
          <p:cNvSpPr/>
          <p:nvPr/>
        </p:nvSpPr>
        <p:spPr>
          <a:xfrm>
            <a:off x="4660920" y="3260880"/>
            <a:ext cx="427032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How clearly does the company understand and communic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How value is create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How to set target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How to measure and review performanc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1"/>
          <p:cNvSpPr/>
          <p:nvPr/>
        </p:nvSpPr>
        <p:spPr>
          <a:xfrm>
            <a:off x="4584600" y="3260880"/>
            <a:ext cx="0" cy="12477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22"/>
          <p:cNvSpPr/>
          <p:nvPr/>
        </p:nvSpPr>
        <p:spPr>
          <a:xfrm>
            <a:off x="4584600" y="4834080"/>
            <a:ext cx="0" cy="12459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23"/>
          <p:cNvSpPr/>
          <p:nvPr/>
        </p:nvSpPr>
        <p:spPr>
          <a:xfrm flipV="1">
            <a:off x="1282680" y="4944240"/>
            <a:ext cx="3301920" cy="647640"/>
          </a:xfrm>
          <a:custGeom>
            <a:avLst/>
            <a:gdLst>
              <a:gd name="textAreaLeft" fmla="*/ 0 w 3301920"/>
              <a:gd name="textAreaRight" fmla="*/ 3302280 w 3301920"/>
              <a:gd name="textAreaTop" fmla="*/ -360 h 647640"/>
              <a:gd name="textAreaBottom" fmla="*/ 647640 h 647640"/>
            </a:gdLst>
            <a:ahLst/>
            <a:rect l="textAreaLeft" t="textAreaTop" r="textAreaRight" b="textAreaBottom"/>
            <a:pathLst>
              <a:path w="1511" h="284">
                <a:moveTo>
                  <a:pt x="1511" y="0"/>
                </a:moveTo>
                <a:lnTo>
                  <a:pt x="0" y="0"/>
                </a:lnTo>
                <a:lnTo>
                  <a:pt x="0" y="284"/>
                </a:lnTo>
              </a:path>
            </a:pathLst>
          </a:custGeom>
          <a:noFill/>
          <a:ln w="28440">
            <a:solidFill>
              <a:srgbClr val="80808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4"/>
          <p:cNvSpPr/>
          <p:nvPr/>
        </p:nvSpPr>
        <p:spPr>
          <a:xfrm flipH="1">
            <a:off x="3084120" y="2306520"/>
            <a:ext cx="1500120" cy="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3240" rIns="9324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5"/>
          <p:cNvSpPr/>
          <p:nvPr/>
        </p:nvSpPr>
        <p:spPr>
          <a:xfrm flipH="1">
            <a:off x="3854520" y="3884760"/>
            <a:ext cx="730080" cy="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3240" rIns="9324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6"/>
          <p:cNvSpPr/>
          <p:nvPr/>
        </p:nvSpPr>
        <p:spPr>
          <a:xfrm>
            <a:off x="77760" y="235080"/>
            <a:ext cx="90662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MOVING ON TO CONDUCTING THE INTERVIEW INVOLVES KNOWLEDGE OF THREE KEY AREAS OF MANAGEMENT PRACTICES AND HOW THEY INTER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2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F0E3-7F88-4EFD-B6E1-C68AB66AD9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3" hidden="1"/>
          <p:cNvSpPr/>
          <p:nvPr/>
        </p:nvSpPr>
        <p:spPr>
          <a:xfrm>
            <a:off x="0" y="87480"/>
            <a:ext cx="16200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582480" y="1227240"/>
            <a:ext cx="1992600" cy="6699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520" rIns="74520" tIns="74520" bIns="74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chni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2751120" y="1227240"/>
            <a:ext cx="51735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3160" indent="-17172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Successful techniques involve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adaptability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, practice and inter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55680" indent="-17784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Adapt to his or her style, manner and langua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55680" indent="-17784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Practice beforehand so you have a rhythm through the ques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55680" indent="-17784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Be genuinely interested (excellent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585720" y="3105000"/>
            <a:ext cx="1992240" cy="668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520" rIns="74520" tIns="74520" bIns="74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Questio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2827440" y="3105000"/>
            <a:ext cx="517356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3160" indent="-17172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Understandable and effic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55680" indent="-17784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One at a time; understandabl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55680" indent="-17784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Open versus close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55680" indent="-17784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Probe for examples without frustrating or over- burdening the manag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8"/>
          <p:cNvSpPr/>
          <p:nvPr/>
        </p:nvSpPr>
        <p:spPr>
          <a:xfrm>
            <a:off x="571680" y="4911840"/>
            <a:ext cx="1992240" cy="668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520" rIns="74520" tIns="74520" bIns="74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ime manage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9"/>
          <p:cNvSpPr/>
          <p:nvPr/>
        </p:nvSpPr>
        <p:spPr>
          <a:xfrm>
            <a:off x="2827440" y="4911840"/>
            <a:ext cx="51735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3160" indent="-17172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atch your tim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55680" indent="-17784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Managers have fixed time limits, BUT they will often elaborate on earlier points for too long, then hurriedly cut you off l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55680" indent="-17784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BUT sometimes, you have to be prepared to be there for a while . 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0"/>
          <p:cNvSpPr/>
          <p:nvPr/>
        </p:nvSpPr>
        <p:spPr>
          <a:xfrm>
            <a:off x="2906640" y="2825640"/>
            <a:ext cx="5173560" cy="0"/>
          </a:xfrm>
          <a:prstGeom prst="line">
            <a:avLst/>
          </a:prstGeom>
          <a:ln w="936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1"/>
          <p:cNvSpPr/>
          <p:nvPr/>
        </p:nvSpPr>
        <p:spPr>
          <a:xfrm>
            <a:off x="2906640" y="4630680"/>
            <a:ext cx="5173560" cy="0"/>
          </a:xfrm>
          <a:prstGeom prst="line">
            <a:avLst/>
          </a:prstGeom>
          <a:ln w="936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2"/>
          <p:cNvSpPr/>
          <p:nvPr/>
        </p:nvSpPr>
        <p:spPr>
          <a:xfrm>
            <a:off x="101520" y="498600"/>
            <a:ext cx="9042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SUCCESSFUL INTERVIEWERS ARE POLISHED YET RELAXED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66EE-8057-4D50-A52D-6B90A22594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3" hidden="1"/>
          <p:cNvSpPr/>
          <p:nvPr/>
        </p:nvSpPr>
        <p:spPr>
          <a:xfrm>
            <a:off x="0" y="189000"/>
            <a:ext cx="1620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182520" y="1312920"/>
            <a:ext cx="866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im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5"/>
          <p:cNvSpPr/>
          <p:nvPr/>
        </p:nvSpPr>
        <p:spPr>
          <a:xfrm>
            <a:off x="182520" y="1652760"/>
            <a:ext cx="866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6"/>
          <p:cNvSpPr/>
          <p:nvPr/>
        </p:nvSpPr>
        <p:spPr>
          <a:xfrm>
            <a:off x="7693200" y="1306440"/>
            <a:ext cx="277560" cy="281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8"/>
          <p:cNvSpPr/>
          <p:nvPr/>
        </p:nvSpPr>
        <p:spPr>
          <a:xfrm>
            <a:off x="5481720" y="1306440"/>
            <a:ext cx="279360" cy="281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0"/>
          <p:cNvSpPr/>
          <p:nvPr/>
        </p:nvSpPr>
        <p:spPr>
          <a:xfrm>
            <a:off x="3271680" y="1306440"/>
            <a:ext cx="281160" cy="281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2"/>
          <p:cNvSpPr/>
          <p:nvPr/>
        </p:nvSpPr>
        <p:spPr>
          <a:xfrm>
            <a:off x="182520" y="1717560"/>
            <a:ext cx="203832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. Process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sts process for and attitudes to continuous improvement and whether learnings are captured/documen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3"/>
          <p:cNvSpPr/>
          <p:nvPr/>
        </p:nvSpPr>
        <p:spPr>
          <a:xfrm>
            <a:off x="343080" y="4124160"/>
            <a:ext cx="8348400" cy="1808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4"/>
          <p:cNvSpPr/>
          <p:nvPr/>
        </p:nvSpPr>
        <p:spPr>
          <a:xfrm>
            <a:off x="417600" y="4167000"/>
            <a:ext cx="819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es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5"/>
          <p:cNvSpPr/>
          <p:nvPr/>
        </p:nvSpPr>
        <p:spPr>
          <a:xfrm>
            <a:off x="417600" y="4518000"/>
            <a:ext cx="819936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311040" indent="-30960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How do problems typically get exposed and fixe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11040" indent="-30960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11040" indent="-30960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Can you talk me through the process for a recent probl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11040" indent="-30960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11040" indent="-30960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Do the staff ever suggest process improvements?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9"/>
          <p:cNvSpPr/>
          <p:nvPr/>
        </p:nvSpPr>
        <p:spPr>
          <a:xfrm>
            <a:off x="2158920" y="1500120"/>
            <a:ext cx="677232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0"/>
          <p:cNvSpPr/>
          <p:nvPr/>
        </p:nvSpPr>
        <p:spPr>
          <a:xfrm>
            <a:off x="2503440" y="1898640"/>
            <a:ext cx="1976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o process improvements are made when problems occ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1"/>
          <p:cNvSpPr/>
          <p:nvPr/>
        </p:nvSpPr>
        <p:spPr>
          <a:xfrm>
            <a:off x="4618080" y="1898640"/>
            <a:ext cx="17542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provements are made in 1 week workshops involving all staff, to improve performance in their area of the pla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2"/>
          <p:cNvSpPr/>
          <p:nvPr/>
        </p:nvSpPr>
        <p:spPr>
          <a:xfrm>
            <a:off x="6622920" y="1898640"/>
            <a:ext cx="224496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posing problems in a structured way is integral to individuals’ responsibilities and resolution occurs as a part of normal business processes rather than by extraordinary effort/tea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5"/>
          <p:cNvSpPr/>
          <p:nvPr/>
        </p:nvSpPr>
        <p:spPr>
          <a:xfrm>
            <a:off x="101520" y="498600"/>
            <a:ext cx="8597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MANAGEMENT INTERVIEW PRACTICE – PERFORMANCE MONITO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98D8-A534-4B88-BAE2-3A1E83E1C1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3" hidden="1"/>
          <p:cNvSpPr/>
          <p:nvPr/>
        </p:nvSpPr>
        <p:spPr>
          <a:xfrm>
            <a:off x="0" y="204840"/>
            <a:ext cx="1620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182520" y="1326960"/>
            <a:ext cx="866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im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5"/>
          <p:cNvSpPr/>
          <p:nvPr/>
        </p:nvSpPr>
        <p:spPr>
          <a:xfrm>
            <a:off x="182520" y="1666800"/>
            <a:ext cx="866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6"/>
          <p:cNvSpPr/>
          <p:nvPr/>
        </p:nvSpPr>
        <p:spPr>
          <a:xfrm>
            <a:off x="7693200" y="1322280"/>
            <a:ext cx="277560" cy="279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8"/>
          <p:cNvSpPr/>
          <p:nvPr/>
        </p:nvSpPr>
        <p:spPr>
          <a:xfrm>
            <a:off x="5481720" y="1322280"/>
            <a:ext cx="279360" cy="279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0"/>
          <p:cNvSpPr/>
          <p:nvPr/>
        </p:nvSpPr>
        <p:spPr>
          <a:xfrm>
            <a:off x="3271680" y="1322280"/>
            <a:ext cx="281160" cy="279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2"/>
          <p:cNvSpPr/>
          <p:nvPr/>
        </p:nvSpPr>
        <p:spPr>
          <a:xfrm>
            <a:off x="182520" y="1731960"/>
            <a:ext cx="2179800" cy="19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5.  Performance review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sts whether performance is reviewed with appropriate frequency and communicated with sta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3"/>
          <p:cNvSpPr/>
          <p:nvPr/>
        </p:nvSpPr>
        <p:spPr>
          <a:xfrm>
            <a:off x="343080" y="3981600"/>
            <a:ext cx="8348400" cy="1809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4"/>
          <p:cNvSpPr/>
          <p:nvPr/>
        </p:nvSpPr>
        <p:spPr>
          <a:xfrm>
            <a:off x="417600" y="4024440"/>
            <a:ext cx="819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es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5"/>
          <p:cNvSpPr/>
          <p:nvPr/>
        </p:nvSpPr>
        <p:spPr>
          <a:xfrm>
            <a:off x="417600" y="4375080"/>
            <a:ext cx="819936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311040" indent="-30960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Do you review your KPI’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11040" indent="-30960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Do you have meetings? When was your last meeti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11040" indent="-30960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o is involved in these meetings? Who gets to see the results of this review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11040" indent="-30960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Is there a follow-up plan?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9"/>
          <p:cNvSpPr/>
          <p:nvPr/>
        </p:nvSpPr>
        <p:spPr>
          <a:xfrm>
            <a:off x="4132440" y="5187960"/>
            <a:ext cx="5011560" cy="1670040"/>
          </a:xfrm>
          <a:prstGeom prst="irregularSeal2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ffffff"/>
                </a:solidFill>
                <a:latin typeface="Calibri"/>
              </a:rPr>
              <a:t>These are not the actual grid</a:t>
            </a:r>
            <a:br>
              <a:rPr sz="1400"/>
            </a:br>
            <a:r>
              <a:rPr b="1" lang="fr-BE" sz="1400" spc="-1" strike="noStrike">
                <a:solidFill>
                  <a:srgbClr val="ffffff"/>
                </a:solidFill>
                <a:latin typeface="Calibri"/>
              </a:rPr>
              <a:t>questions, but examples of</a:t>
            </a:r>
            <a:br>
              <a:rPr sz="1400"/>
            </a:br>
            <a:r>
              <a:rPr b="1" lang="fr-BE" sz="1400" spc="-1" strike="noStrike">
                <a:solidFill>
                  <a:srgbClr val="ffffff"/>
                </a:solidFill>
                <a:latin typeface="Calibri"/>
              </a:rPr>
              <a:t>what they should not 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0"/>
          <p:cNvSpPr/>
          <p:nvPr/>
        </p:nvSpPr>
        <p:spPr>
          <a:xfrm>
            <a:off x="2378160" y="1917720"/>
            <a:ext cx="19764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erformance is reviewed infrequently or in an un-meaningful way e.g. only success or failure is no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1"/>
          <p:cNvSpPr/>
          <p:nvPr/>
        </p:nvSpPr>
        <p:spPr>
          <a:xfrm>
            <a:off x="4606920" y="1882800"/>
            <a:ext cx="197640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erformance is reviewed periodically with both successes and failures identified.  Results are communicated to senior management. No clear follow-up plan is ado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2"/>
          <p:cNvSpPr/>
          <p:nvPr/>
        </p:nvSpPr>
        <p:spPr>
          <a:xfrm>
            <a:off x="6778800" y="1882800"/>
            <a:ext cx="197640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erformance is continually reviewed, based on indicators tracked.  All aspects are followed up ensure continuous improvement. Results are communicated to all staf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4"/>
          <p:cNvSpPr/>
          <p:nvPr/>
        </p:nvSpPr>
        <p:spPr>
          <a:xfrm>
            <a:off x="101520" y="500040"/>
            <a:ext cx="8597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MANAGEMENT INTERVIEW PRACTICE – PERFORMANCE MONITO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BC24-79B1-4055-A92C-C803B37D6B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3"/>
          <p:cNvSpPr/>
          <p:nvPr/>
        </p:nvSpPr>
        <p:spPr>
          <a:xfrm>
            <a:off x="702360" y="1143720"/>
            <a:ext cx="2483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y the interviewer strug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6316560" y="1143720"/>
            <a:ext cx="2028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est practi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5"/>
          <p:cNvSpPr/>
          <p:nvPr/>
        </p:nvSpPr>
        <p:spPr>
          <a:xfrm>
            <a:off x="6316560" y="1427040"/>
            <a:ext cx="202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692280" y="1512720"/>
            <a:ext cx="2046240" cy="1152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440" rIns="73440" tIns="73440" bIns="73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Mistak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Underestimating interviewees unease and/or confu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2832120" y="1512720"/>
            <a:ext cx="280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Even very experienced people feel awkw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8"/>
          <p:cNvSpPr/>
          <p:nvPr/>
        </p:nvSpPr>
        <p:spPr>
          <a:xfrm rot="5400000">
            <a:off x="5497920" y="1891440"/>
            <a:ext cx="933480" cy="17604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11880" bIns="11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9"/>
          <p:cNvSpPr/>
          <p:nvPr/>
        </p:nvSpPr>
        <p:spPr>
          <a:xfrm>
            <a:off x="6316560" y="1854360"/>
            <a:ext cx="2028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reate recep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0"/>
          <p:cNvSpPr/>
          <p:nvPr/>
        </p:nvSpPr>
        <p:spPr>
          <a:xfrm>
            <a:off x="692280" y="2824200"/>
            <a:ext cx="2046240" cy="1154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440" rIns="73440" tIns="73440" bIns="73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Mistak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Forcing the interviewers’ own opin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1"/>
          <p:cNvSpPr/>
          <p:nvPr/>
        </p:nvSpPr>
        <p:spPr>
          <a:xfrm>
            <a:off x="2832120" y="2824200"/>
            <a:ext cx="280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You’ve got to hold your own views b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12"/>
          <p:cNvSpPr/>
          <p:nvPr/>
        </p:nvSpPr>
        <p:spPr>
          <a:xfrm rot="5400000">
            <a:off x="5497920" y="3202920"/>
            <a:ext cx="933480" cy="17604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11880" bIns="11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3"/>
          <p:cNvSpPr/>
          <p:nvPr/>
        </p:nvSpPr>
        <p:spPr>
          <a:xfrm>
            <a:off x="6316560" y="3041640"/>
            <a:ext cx="20289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eek rather than give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4"/>
          <p:cNvSpPr/>
          <p:nvPr/>
        </p:nvSpPr>
        <p:spPr>
          <a:xfrm>
            <a:off x="692280" y="4138560"/>
            <a:ext cx="2046240" cy="1152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440" rIns="73440" tIns="73440" bIns="73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Mistake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Overloading with too many p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5"/>
          <p:cNvSpPr/>
          <p:nvPr/>
        </p:nvSpPr>
        <p:spPr>
          <a:xfrm>
            <a:off x="2832120" y="4138560"/>
            <a:ext cx="280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People can only handle one question or thought at a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16"/>
          <p:cNvSpPr/>
          <p:nvPr/>
        </p:nvSpPr>
        <p:spPr>
          <a:xfrm rot="5400000">
            <a:off x="5497920" y="4517280"/>
            <a:ext cx="933480" cy="17604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11880" bIns="11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7"/>
          <p:cNvSpPr/>
          <p:nvPr/>
        </p:nvSpPr>
        <p:spPr>
          <a:xfrm>
            <a:off x="6316560" y="4356000"/>
            <a:ext cx="20289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Discuss one point at a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8"/>
          <p:cNvSpPr/>
          <p:nvPr/>
        </p:nvSpPr>
        <p:spPr>
          <a:xfrm>
            <a:off x="692280" y="5451480"/>
            <a:ext cx="2046240" cy="1154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440" rIns="73440" tIns="73440" bIns="73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Mistake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Failure to remember key de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9"/>
          <p:cNvSpPr/>
          <p:nvPr/>
        </p:nvSpPr>
        <p:spPr>
          <a:xfrm>
            <a:off x="2832120" y="5451480"/>
            <a:ext cx="28051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aking notes, ensuring engagement and transitioning manager can be diffic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20"/>
          <p:cNvSpPr/>
          <p:nvPr/>
        </p:nvSpPr>
        <p:spPr>
          <a:xfrm rot="5400000">
            <a:off x="5497920" y="5830200"/>
            <a:ext cx="933480" cy="17604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11880" bIns="11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1"/>
          <p:cNvSpPr/>
          <p:nvPr/>
        </p:nvSpPr>
        <p:spPr>
          <a:xfrm>
            <a:off x="6316560" y="5668920"/>
            <a:ext cx="20289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ummarize and shorthand to verify l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22"/>
          <p:cNvSpPr/>
          <p:nvPr/>
        </p:nvSpPr>
        <p:spPr>
          <a:xfrm>
            <a:off x="692280" y="1427040"/>
            <a:ext cx="495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24"/>
          <p:cNvSpPr/>
          <p:nvPr/>
        </p:nvSpPr>
        <p:spPr>
          <a:xfrm>
            <a:off x="101520" y="500040"/>
            <a:ext cx="8597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MOST INTERVIWERS SUFFER FROM THE SAME COMMON PITFA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2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BAB2-3D7F-4EBE-801E-67BE526DBB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2035080" y="1731960"/>
            <a:ext cx="6772320" cy="383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3"/>
          <p:cNvSpPr/>
          <p:nvPr/>
        </p:nvSpPr>
        <p:spPr>
          <a:xfrm>
            <a:off x="2293920" y="3187800"/>
            <a:ext cx="649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4"/>
          <p:cNvSpPr/>
          <p:nvPr/>
        </p:nvSpPr>
        <p:spPr>
          <a:xfrm>
            <a:off x="411120" y="1731960"/>
            <a:ext cx="1959120" cy="3832200"/>
          </a:xfrm>
          <a:custGeom>
            <a:avLst/>
            <a:gdLst>
              <a:gd name="textAreaLeft" fmla="*/ 0 w 1959120"/>
              <a:gd name="textAreaRight" fmla="*/ 1959480 w 1959120"/>
              <a:gd name="textAreaTop" fmla="*/ 0 h 3832200"/>
              <a:gd name="textAreaBottom" fmla="*/ 3832560 h 383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0" y="0"/>
                </a:lnTo>
                <a:lnTo>
                  <a:pt x="21600" y="10800"/>
                </a:lnTo>
                <a:lnTo>
                  <a:pt x="181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4410000" y="1736640"/>
            <a:ext cx="1596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coring criter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6"/>
          <p:cNvSpPr/>
          <p:nvPr/>
        </p:nvSpPr>
        <p:spPr>
          <a:xfrm>
            <a:off x="4408560" y="3218040"/>
            <a:ext cx="1596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eal life examp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7"/>
          <p:cNvSpPr/>
          <p:nvPr/>
        </p:nvSpPr>
        <p:spPr>
          <a:xfrm>
            <a:off x="473040" y="1838160"/>
            <a:ext cx="14702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emoving poor perform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8"/>
          <p:cNvSpPr/>
          <p:nvPr/>
        </p:nvSpPr>
        <p:spPr>
          <a:xfrm>
            <a:off x="473040" y="3255480"/>
            <a:ext cx="142236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ests whether firm is able to deal with underperform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2392200" y="2319480"/>
            <a:ext cx="173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Poor performers are rarely removed from their posi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0"/>
          <p:cNvSpPr/>
          <p:nvPr/>
        </p:nvSpPr>
        <p:spPr>
          <a:xfrm>
            <a:off x="4264200" y="2319480"/>
            <a:ext cx="2020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Suspected poor performers stay in a position for a few years before action is take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1"/>
          <p:cNvSpPr/>
          <p:nvPr/>
        </p:nvSpPr>
        <p:spPr>
          <a:xfrm>
            <a:off x="6431040" y="2319480"/>
            <a:ext cx="232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We move poor performers out of the company or to less critical roles as soon as a weakness is identifi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Group 13"/>
          <p:cNvGrpSpPr/>
          <p:nvPr/>
        </p:nvGrpSpPr>
        <p:grpSpPr>
          <a:xfrm>
            <a:off x="8183520" y="1063440"/>
            <a:ext cx="887040" cy="618120"/>
            <a:chOff x="8183520" y="1063440"/>
            <a:chExt cx="887040" cy="618120"/>
          </a:xfrm>
        </p:grpSpPr>
        <p:sp>
          <p:nvSpPr>
            <p:cNvPr id="388" name="Oval 14"/>
            <p:cNvSpPr/>
            <p:nvPr/>
          </p:nvSpPr>
          <p:spPr>
            <a:xfrm flipV="1">
              <a:off x="8502480" y="1063080"/>
              <a:ext cx="265320" cy="25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5"/>
            <p:cNvSpPr/>
            <p:nvPr/>
          </p:nvSpPr>
          <p:spPr>
            <a:xfrm flipV="1">
              <a:off x="8384400" y="1257120"/>
              <a:ext cx="266760" cy="25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16"/>
            <p:cNvSpPr/>
            <p:nvPr/>
          </p:nvSpPr>
          <p:spPr>
            <a:xfrm flipV="1">
              <a:off x="8619120" y="1257120"/>
              <a:ext cx="267120" cy="255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17"/>
            <p:cNvSpPr/>
            <p:nvPr/>
          </p:nvSpPr>
          <p:spPr>
            <a:xfrm>
              <a:off x="8183520" y="1528920"/>
              <a:ext cx="887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Tal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18"/>
          <p:cNvGrpSpPr/>
          <p:nvPr/>
        </p:nvGrpSpPr>
        <p:grpSpPr>
          <a:xfrm>
            <a:off x="411120" y="5611680"/>
            <a:ext cx="8397720" cy="789120"/>
            <a:chOff x="411120" y="5611680"/>
            <a:chExt cx="8397720" cy="789120"/>
          </a:xfrm>
        </p:grpSpPr>
        <p:sp>
          <p:nvSpPr>
            <p:cNvPr id="393" name="Rectangle 19"/>
            <p:cNvSpPr/>
            <p:nvPr/>
          </p:nvSpPr>
          <p:spPr>
            <a:xfrm>
              <a:off x="411120" y="5611680"/>
              <a:ext cx="8397720" cy="78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20"/>
            <p:cNvSpPr/>
            <p:nvPr/>
          </p:nvSpPr>
          <p:spPr>
            <a:xfrm>
              <a:off x="8112600" y="5611680"/>
              <a:ext cx="696240" cy="30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Rectangle 21"/>
          <p:cNvSpPr/>
          <p:nvPr/>
        </p:nvSpPr>
        <p:spPr>
          <a:xfrm>
            <a:off x="7070760" y="5707080"/>
            <a:ext cx="977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core giv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2"/>
          <p:cNvSpPr/>
          <p:nvPr/>
        </p:nvSpPr>
        <p:spPr>
          <a:xfrm>
            <a:off x="473040" y="5662440"/>
            <a:ext cx="2451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nterviewer notes/quo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23"/>
          <p:cNvSpPr/>
          <p:nvPr/>
        </p:nvSpPr>
        <p:spPr>
          <a:xfrm>
            <a:off x="3157560" y="2016000"/>
            <a:ext cx="233280" cy="23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24"/>
          <p:cNvSpPr/>
          <p:nvPr/>
        </p:nvSpPr>
        <p:spPr>
          <a:xfrm>
            <a:off x="5108400" y="2016000"/>
            <a:ext cx="233640" cy="23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25"/>
          <p:cNvSpPr/>
          <p:nvPr/>
        </p:nvSpPr>
        <p:spPr>
          <a:xfrm>
            <a:off x="7405560" y="2016000"/>
            <a:ext cx="233640" cy="23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6"/>
          <p:cNvSpPr/>
          <p:nvPr/>
        </p:nvSpPr>
        <p:spPr>
          <a:xfrm>
            <a:off x="2392200" y="3441600"/>
            <a:ext cx="1832040" cy="18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46160" indent="-14472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  <a:ea typeface="Arial"/>
              </a:rPr>
              <a:t>Firm had a supervisor who was regularly drinking alcohol at work but no action was taken. In fact no employee had ever been laid off in the factory despite incidences like t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  <a:ea typeface="Arial"/>
              </a:rPr>
              <a:t>According to the plant manager HR kicked up fuss whenever management wanted to exit employees, and told managers their job was production not personne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7"/>
          <p:cNvSpPr/>
          <p:nvPr/>
        </p:nvSpPr>
        <p:spPr>
          <a:xfrm>
            <a:off x="4264200" y="3441600"/>
            <a:ext cx="2006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46160" indent="-14472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  <a:ea typeface="Arial"/>
              </a:rPr>
              <a:t>Management has to prove at least 3 times that an individual underperformed before they can take serious actio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28"/>
          <p:cNvSpPr/>
          <p:nvPr/>
        </p:nvSpPr>
        <p:spPr>
          <a:xfrm>
            <a:off x="6431040" y="3441600"/>
            <a:ext cx="2324160" cy="12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46160" indent="-14472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  <a:ea typeface="Arial"/>
              </a:rPr>
              <a:t>Manager fired 4 people during last couple of months due to underperform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  <a:ea typeface="Arial"/>
              </a:rPr>
              <a:t>They continually investigate why and who are underperform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  <a:ea typeface="Arial"/>
              </a:rPr>
              <a:t>At another firm the manager said “sure we fire poor performers – I’m the third plant manager in the last 2 years, the last two got sacked for not fixing this place”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9"/>
          <p:cNvSpPr/>
          <p:nvPr/>
        </p:nvSpPr>
        <p:spPr>
          <a:xfrm>
            <a:off x="101520" y="498600"/>
            <a:ext cx="8810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MANAGEMENT INTERVIEW PRACTICE EXAMPLES: TAL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95AE-4A00-47FB-8C02-8B14B44483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2151000" y="4862520"/>
            <a:ext cx="5087880" cy="7761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3"/>
          <p:cNvSpPr/>
          <p:nvPr/>
        </p:nvSpPr>
        <p:spPr>
          <a:xfrm>
            <a:off x="2216160" y="1309680"/>
            <a:ext cx="5479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ntroduction and over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elephone interviews and challe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nagement interview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92232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Arial"/>
              </a:rPr>
              <a:t>Schedu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92232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Arial"/>
              </a:rPr>
              <a:t>Confir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92232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Arial"/>
              </a:rPr>
              <a:t>Ru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92232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Arial"/>
              </a:rPr>
              <a:t>Sco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92232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Calibri"/>
              </a:rPr>
              <a:t>Conclusions and ques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0" y="511200"/>
            <a:ext cx="9144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AGE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FD9D-C7D8-4B6C-A90E-82D83A0C23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8876-20BA-4472-969C-34FB4CF09C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AutoShape 3"/>
          <p:cNvSpPr/>
          <p:nvPr/>
        </p:nvSpPr>
        <p:spPr>
          <a:xfrm>
            <a:off x="1246320" y="1581120"/>
            <a:ext cx="6545160" cy="4127400"/>
          </a:xfrm>
          <a:prstGeom prst="foldedCorner">
            <a:avLst>
              <a:gd name="adj" fmla="val 1422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"/>
          <p:cNvSpPr/>
          <p:nvPr/>
        </p:nvSpPr>
        <p:spPr>
          <a:xfrm>
            <a:off x="1504800" y="1836720"/>
            <a:ext cx="602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t’s practice these key points through a mock interview 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9"/>
          <p:cNvSpPr/>
          <p:nvPr/>
        </p:nvSpPr>
        <p:spPr>
          <a:xfrm>
            <a:off x="101520" y="498600"/>
            <a:ext cx="8810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TRANSITION TO MOCK INTERVIE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0AF9-37EB-4B52-83E9-65BAD874B1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160200" y="1309680"/>
            <a:ext cx="814716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Role of intervie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Interview and question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Data integ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Acceptable inter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Style of the interview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Professional yet appropri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Conversation not questionna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Confident and positiv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Be polite (and accommodating) at all times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TAKE notes and pay attention…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Tone of the intervie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22400" y="511200"/>
            <a:ext cx="9021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MANAGEMENT INTERVIEWS ARE MORE THAN A SURVE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6307-EED4-4EC8-9AE6-C58F52E889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 hidden="1"/>
          <p:cNvSpPr/>
          <p:nvPr/>
        </p:nvSpPr>
        <p:spPr>
          <a:xfrm>
            <a:off x="0" y="-36504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2708280" y="1922400"/>
            <a:ext cx="2386080" cy="4021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585720" y="2087640"/>
            <a:ext cx="12398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ff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vi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2903400" y="2087640"/>
            <a:ext cx="2008440" cy="834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440" rIns="73440" tIns="73440" bIns="73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6107040" y="2087640"/>
            <a:ext cx="2008440" cy="834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440" rIns="73440" tIns="73440" bIns="73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view dialog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6107040" y="3049560"/>
            <a:ext cx="257976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46160" indent="-14472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rofessional yet friend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fficient and eff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ositive without l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ttentive and yet to the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2876400" y="3049560"/>
            <a:ext cx="2008440" cy="24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46160" indent="-144720">
              <a:lnSpc>
                <a:spcPct val="100000"/>
              </a:lnSpc>
              <a:buClr>
                <a:srgbClr val="ffffff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Context and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buClr>
                <a:srgbClr val="ffffff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Interviewee position and knowledg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erms and con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buClr>
                <a:srgbClr val="ffffff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Grid famili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buClr>
                <a:srgbClr val="ffffff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Firm grasp of scoring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9"/>
          <p:cNvSpPr/>
          <p:nvPr/>
        </p:nvSpPr>
        <p:spPr>
          <a:xfrm>
            <a:off x="2154240" y="2376360"/>
            <a:ext cx="258840" cy="258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0"/>
          <p:cNvSpPr/>
          <p:nvPr/>
        </p:nvSpPr>
        <p:spPr>
          <a:xfrm>
            <a:off x="5470560" y="2376360"/>
            <a:ext cx="258840" cy="258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77760" y="235080"/>
            <a:ext cx="90219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SUCCESSFUL INTERVIEWS REQUIRE BOTH INTERVIEW PREPARATION AND EFFECTIVE INTERVIEW DIALOG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2480-D577-45AD-86EF-2E4FA53631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2151000" y="2133720"/>
            <a:ext cx="5087880" cy="7761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216160" y="1309680"/>
            <a:ext cx="5479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ntroduction and over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Calibri"/>
              </a:rPr>
              <a:t>Telephone interviews and challe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nagement interview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92232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Arial"/>
              </a:rPr>
              <a:t>Schedu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92232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Arial"/>
              </a:rPr>
              <a:t>Confir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92232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Arial"/>
              </a:rPr>
              <a:t>Ru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92232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Arial"/>
              </a:rPr>
              <a:t>Sco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92232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nclusions and ques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511200"/>
            <a:ext cx="9144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AGE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38D7-AAFF-4A3E-A5DD-5D2E51C0EF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 hidden="1"/>
          <p:cNvSpPr/>
          <p:nvPr/>
        </p:nvSpPr>
        <p:spPr>
          <a:xfrm>
            <a:off x="0" y="0"/>
            <a:ext cx="1620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5484960" y="1898640"/>
            <a:ext cx="3243240" cy="412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5591160" y="2424240"/>
            <a:ext cx="3043080" cy="36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311040" indent="-3096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Measures tracked do not directly indicate if overall business objectives are being met. Tracking is ad h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11040" indent="-3096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11040" indent="-309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Most key performance indicators are tracked formally. Tracking is overseen by senior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11040" indent="-309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11040" indent="-3096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5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Performance is continuously tracked and communicated, formally and informally, to all staff, using a range of visual management too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 flipV="1">
            <a:off x="1752480" y="190476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7"/>
          <p:cNvSpPr/>
          <p:nvPr/>
        </p:nvSpPr>
        <p:spPr>
          <a:xfrm flipV="1">
            <a:off x="4572000" y="190512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4572000" y="2971800"/>
            <a:ext cx="914400" cy="3124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299880" y="1230840"/>
            <a:ext cx="3075120" cy="2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Example dimensions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2971800" y="3733920"/>
            <a:ext cx="1822320" cy="2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Performance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2997360" y="5568840"/>
            <a:ext cx="17269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onsequenc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2971800" y="2590920"/>
            <a:ext cx="1574640" cy="5806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Performance Trac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299880" y="5064120"/>
            <a:ext cx="14763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alen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6"/>
          <p:cNvSpPr/>
          <p:nvPr/>
        </p:nvSpPr>
        <p:spPr>
          <a:xfrm>
            <a:off x="304920" y="1828800"/>
            <a:ext cx="1477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Operations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7"/>
          <p:cNvSpPr/>
          <p:nvPr/>
        </p:nvSpPr>
        <p:spPr>
          <a:xfrm>
            <a:off x="1752480" y="3200400"/>
            <a:ext cx="1143000" cy="2590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9"/>
          <p:cNvSpPr/>
          <p:nvPr/>
        </p:nvSpPr>
        <p:spPr>
          <a:xfrm>
            <a:off x="2997360" y="1665360"/>
            <a:ext cx="17287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Process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0"/>
          <p:cNvSpPr/>
          <p:nvPr/>
        </p:nvSpPr>
        <p:spPr>
          <a:xfrm>
            <a:off x="258840" y="2895480"/>
            <a:ext cx="1493640" cy="5806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Performance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1"/>
          <p:cNvSpPr/>
          <p:nvPr/>
        </p:nvSpPr>
        <p:spPr>
          <a:xfrm>
            <a:off x="299880" y="1536840"/>
            <a:ext cx="414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2"/>
          <p:cNvSpPr/>
          <p:nvPr/>
        </p:nvSpPr>
        <p:spPr>
          <a:xfrm>
            <a:off x="5484960" y="1898640"/>
            <a:ext cx="3243240" cy="411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3"/>
          <p:cNvSpPr/>
          <p:nvPr/>
        </p:nvSpPr>
        <p:spPr>
          <a:xfrm>
            <a:off x="5591160" y="1965960"/>
            <a:ext cx="261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Dimension scoring crit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4"/>
          <p:cNvSpPr/>
          <p:nvPr/>
        </p:nvSpPr>
        <p:spPr>
          <a:xfrm>
            <a:off x="5484960" y="3505320"/>
            <a:ext cx="3243240" cy="0"/>
          </a:xfrm>
          <a:prstGeom prst="line">
            <a:avLst/>
          </a:prstGeom>
          <a:ln w="936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5"/>
          <p:cNvSpPr/>
          <p:nvPr/>
        </p:nvSpPr>
        <p:spPr>
          <a:xfrm>
            <a:off x="5484960" y="4495680"/>
            <a:ext cx="3243240" cy="0"/>
          </a:xfrm>
          <a:prstGeom prst="line">
            <a:avLst/>
          </a:prstGeom>
          <a:ln w="936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6"/>
          <p:cNvSpPr/>
          <p:nvPr/>
        </p:nvSpPr>
        <p:spPr>
          <a:xfrm>
            <a:off x="77760" y="235080"/>
            <a:ext cx="90662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TO SCORE COMPANIES, WE WILL USE THE DETAILED PERFORMANCE REVIEW TO ASSESS THE KEY PRACTICES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274680" y="4114800"/>
            <a:ext cx="1477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arg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2971800" y="4537080"/>
            <a:ext cx="17287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Performance Dialog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2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8D01-900F-473C-9656-7E8DE10F5B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419040" y="1224000"/>
          <a:ext cx="2521080" cy="4881600"/>
        </p:xfrm>
        <a:graphic>
          <a:graphicData uri="http://schemas.openxmlformats.org/drawingml/2006/table">
            <a:tbl>
              <a:tblPr/>
              <a:tblGrid>
                <a:gridCol w="2521080"/>
              </a:tblGrid>
              <a:tr h="1717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490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2673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interviewee is more likely to misinterpret your questio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327120" y="1289160"/>
            <a:ext cx="56372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t could be very difficult to form a bond with someone on the telephone versus in pers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t is more difficult to communicate clearly without the aid of body langu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eople are less likely to be honest with you because you cannot use eye conta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85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re are many barriers to clarity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The interviewee may be multitask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There may be misinterpretations due to accent/languag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The interviewee tends to try to ‘visualise’ the person that is interviewing them, and this can bias their respons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The interviewee may not understand the question and you might have to rephrase and clarify unexpectadly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direction of telephone conversations can be highly influenced by the first minute of convers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15"/>
          <p:cNvSpPr/>
          <p:nvPr/>
        </p:nvSpPr>
        <p:spPr>
          <a:xfrm>
            <a:off x="122400" y="220680"/>
            <a:ext cx="87930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…</a:t>
            </a: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BUT WE KNOW THAT GETTING ACCURATE OPINIONS AND INFORMATION ON THE TELEPHONE CAN BE CHALLENGING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6"/>
          <p:cNvSpPr/>
          <p:nvPr/>
        </p:nvSpPr>
        <p:spPr>
          <a:xfrm>
            <a:off x="430200" y="3614760"/>
            <a:ext cx="2468520" cy="252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440" rIns="73440" tIns="73440" bIns="73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re are many possible barriers to clarity in questions and respo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7"/>
          <p:cNvSpPr/>
          <p:nvPr/>
        </p:nvSpPr>
        <p:spPr>
          <a:xfrm>
            <a:off x="419040" y="1209600"/>
            <a:ext cx="2494080" cy="2185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440" rIns="73440" tIns="73440" bIns="73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The telephone is a less ‘personal’ medium of communic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13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64AD-C864-4199-AF25-0015772E4BF2}" type="slidenum">
              <a:rPr b="0" lang="en-US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622440" y="1174680"/>
            <a:ext cx="2043000" cy="906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520" rIns="74520" tIns="74520" bIns="74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epare the interview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2820960" y="1174680"/>
            <a:ext cx="55008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46160" indent="-14472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If the interviewee knows why you are asking them questions, their responses are likely to be more relev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Interviewees are likely to be more comfortable and honest if you describe what will happen to their response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5"/>
          <p:cNvSpPr/>
          <p:nvPr/>
        </p:nvSpPr>
        <p:spPr>
          <a:xfrm>
            <a:off x="498600" y="1050840"/>
            <a:ext cx="245880" cy="2462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622440" y="2647800"/>
            <a:ext cx="2043000" cy="908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520" rIns="74520" tIns="74520" bIns="74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sk clear, succinct, open and simple ques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2820960" y="2647800"/>
            <a:ext cx="55008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46160" indent="-14472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If your questions are too closed, you can miss out on a lot of information that could be impor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Telephone interviews already have many communication challenges – lengthy, complex questions only add m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8"/>
          <p:cNvSpPr/>
          <p:nvPr/>
        </p:nvSpPr>
        <p:spPr>
          <a:xfrm>
            <a:off x="498600" y="2523960"/>
            <a:ext cx="245880" cy="2462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622440" y="4122720"/>
            <a:ext cx="2043000" cy="906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520" rIns="74520" tIns="74520" bIns="74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be for details, without le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2820960" y="4122720"/>
            <a:ext cx="550080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46160" indent="-14472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The only way you will get reliable information is through getting details from the interview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99880" indent="-15048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Your interviewees will have a tendency to generalize and make broad statements against your ques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99880" indent="-15048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There are often rich details and facts underneath these broad statements, but they won’t come out unless you ask the right ques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If you infer something in your question, the interviewee is likely to respond to your inference – this may affect the accuracy of the respons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1"/>
          <p:cNvSpPr/>
          <p:nvPr/>
        </p:nvSpPr>
        <p:spPr>
          <a:xfrm>
            <a:off x="498600" y="3997440"/>
            <a:ext cx="245880" cy="2458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2"/>
          <p:cNvSpPr/>
          <p:nvPr/>
        </p:nvSpPr>
        <p:spPr>
          <a:xfrm>
            <a:off x="2860560" y="2346480"/>
            <a:ext cx="5678640" cy="0"/>
          </a:xfrm>
          <a:prstGeom prst="line">
            <a:avLst/>
          </a:prstGeom>
          <a:ln w="936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"/>
          <p:cNvSpPr/>
          <p:nvPr/>
        </p:nvSpPr>
        <p:spPr>
          <a:xfrm>
            <a:off x="2860560" y="3821040"/>
            <a:ext cx="5678640" cy="0"/>
          </a:xfrm>
          <a:prstGeom prst="line">
            <a:avLst/>
          </a:prstGeom>
          <a:ln w="936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5"/>
          <p:cNvSpPr/>
          <p:nvPr/>
        </p:nvSpPr>
        <p:spPr>
          <a:xfrm>
            <a:off x="122400" y="236520"/>
            <a:ext cx="87930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…</a:t>
            </a: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SO SCHEDULING AND CONDUCTING THE INTERVIEW IN THE RIGHT WAY IS ESSENT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487F-7858-496A-A37B-6D0512B398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3" hidden="1"/>
          <p:cNvSpPr/>
          <p:nvPr/>
        </p:nvSpPr>
        <p:spPr>
          <a:xfrm>
            <a:off x="0" y="306360"/>
            <a:ext cx="1620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3182760" y="1574640"/>
            <a:ext cx="5243760" cy="31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3160" indent="-1717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Review the reasons behind the interview and how it will ultimately benefit t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160" indent="-1717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Explain what will happen with their responses – ensure them that their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individual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opinions will not be sha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160" indent="-1717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Explain why we are asking questions in a certain way – ensure them that we are trying to be as accurate as possible in this stu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160" indent="-1717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Use the points on your interview guide to ensure that you cover all these before you begin the inter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160" indent="-1717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Invite questions and ensure the interviewee is comfortable before you proce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5"/>
          <p:cNvSpPr/>
          <p:nvPr/>
        </p:nvSpPr>
        <p:spPr>
          <a:xfrm>
            <a:off x="2766960" y="1425600"/>
            <a:ext cx="5646960" cy="1440"/>
          </a:xfrm>
          <a:custGeom>
            <a:avLst/>
            <a:gdLst>
              <a:gd name="textAreaLeft" fmla="*/ 0 w 5646960"/>
              <a:gd name="textAreaRight" fmla="*/ 5647320 w 5646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486" h="1">
                <a:moveTo>
                  <a:pt x="0" y="0"/>
                </a:moveTo>
                <a:lnTo>
                  <a:pt x="3486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3240" rIns="9324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6"/>
          <p:cNvSpPr/>
          <p:nvPr/>
        </p:nvSpPr>
        <p:spPr>
          <a:xfrm>
            <a:off x="2770200" y="2314440"/>
            <a:ext cx="5665680" cy="2656080"/>
          </a:xfrm>
          <a:custGeom>
            <a:avLst/>
            <a:gdLst>
              <a:gd name="textAreaLeft" fmla="*/ 0 w 5665680"/>
              <a:gd name="textAreaRight" fmla="*/ 5665680 w 5665680"/>
              <a:gd name="textAreaTop" fmla="*/ 0 h 2656080"/>
              <a:gd name="textAreaBottom" fmla="*/ 2656440 h 2656080"/>
            </a:gdLst>
            <a:ahLst/>
            <a:rect l="textAreaLeft" t="textAreaTop" r="textAreaRight" b="textAreaBottom"/>
            <a:pathLst>
              <a:path w="3594" h="1488">
                <a:moveTo>
                  <a:pt x="0" y="0"/>
                </a:moveTo>
                <a:lnTo>
                  <a:pt x="168" y="240"/>
                </a:lnTo>
                <a:lnTo>
                  <a:pt x="168" y="1488"/>
                </a:lnTo>
                <a:lnTo>
                  <a:pt x="3594" y="1488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609480" y="1420920"/>
            <a:ext cx="2162160" cy="906480"/>
          </a:xfrm>
          <a:prstGeom prst="rect">
            <a:avLst/>
          </a:prstGeom>
          <a:solidFill>
            <a:srgbClr val="7f7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520" rIns="74520" tIns="74520" bIns="74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Prepare the interview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8"/>
          <p:cNvSpPr/>
          <p:nvPr/>
        </p:nvSpPr>
        <p:spPr>
          <a:xfrm>
            <a:off x="487440" y="1295280"/>
            <a:ext cx="245880" cy="246240"/>
          </a:xfrm>
          <a:prstGeom prst="ellipse">
            <a:avLst/>
          </a:prstGeom>
          <a:solidFill>
            <a:srgbClr val="7f7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9"/>
          <p:cNvGrpSpPr/>
          <p:nvPr/>
        </p:nvGrpSpPr>
        <p:grpSpPr>
          <a:xfrm>
            <a:off x="487440" y="2986200"/>
            <a:ext cx="2283840" cy="1029960"/>
            <a:chOff x="487440" y="2986200"/>
            <a:chExt cx="2283840" cy="1029960"/>
          </a:xfrm>
        </p:grpSpPr>
        <p:sp>
          <p:nvSpPr>
            <p:cNvPr id="203" name="Rectangle 10"/>
            <p:cNvSpPr/>
            <p:nvPr/>
          </p:nvSpPr>
          <p:spPr>
            <a:xfrm>
              <a:off x="608760" y="3108960"/>
              <a:ext cx="2162520" cy="90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73080" bIns="73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Ask clear, succinct, open and simple ques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11"/>
            <p:cNvSpPr/>
            <p:nvPr/>
          </p:nvSpPr>
          <p:spPr>
            <a:xfrm>
              <a:off x="487440" y="2986200"/>
              <a:ext cx="246240" cy="2462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12"/>
          <p:cNvSpPr/>
          <p:nvPr/>
        </p:nvSpPr>
        <p:spPr>
          <a:xfrm>
            <a:off x="609480" y="4800600"/>
            <a:ext cx="2162160" cy="907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520" rIns="74520" tIns="74520" bIns="74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be for details, without le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3"/>
          <p:cNvSpPr/>
          <p:nvPr/>
        </p:nvSpPr>
        <p:spPr>
          <a:xfrm>
            <a:off x="487440" y="4675320"/>
            <a:ext cx="245880" cy="2458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5"/>
          <p:cNvSpPr/>
          <p:nvPr/>
        </p:nvSpPr>
        <p:spPr>
          <a:xfrm>
            <a:off x="122400" y="500040"/>
            <a:ext cx="8793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KEY STEPS IN AN EFFECTIVE INTER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A4DF-59D7-46BD-AA92-88C0205ED4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29:33Z</dcterms:created>
  <dc:creator>Renata Lemos</dc:creator>
  <dc:description/>
  <dc:language>en-US</dc:language>
  <cp:lastModifiedBy>RENATA LEMOS</cp:lastModifiedBy>
  <dcterms:modified xsi:type="dcterms:W3CDTF">2010-12-10T20:45:04Z</dcterms:modified>
  <cp:revision>13</cp:revision>
  <dc:subject/>
  <dc:title>Slide 1</dc:title>
</cp:coreProperties>
</file>