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DB1EF8-5972-4992-9412-292DB7D1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g num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EDDA9E-4162-4137-85B0-5B756506E2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7600" cy="780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7160" cy="4152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07600" y="457344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e are no longer using customer dem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Even if seasonal and/ or  customer order delivered to the shop floor directly; determine between manager and workers who make plans according to those work 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oc id"/>
          <p:cNvSpPr/>
          <p:nvPr/>
        </p:nvSpPr>
        <p:spPr>
          <a:xfrm>
            <a:off x="8846640" y="37440"/>
            <a:ext cx="864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X-AAA123-20050610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g num"/>
          <p:cNvSpPr/>
          <p:nvPr/>
        </p:nvSpPr>
        <p:spPr>
          <a:xfrm>
            <a:off x="9167760" y="8796960"/>
            <a:ext cx="54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782DBD17-85FD-4114-ACBF-95CDB38895F6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708120" y="247680"/>
            <a:ext cx="5538600" cy="4154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1D3CD3-2DEE-45C9-9A08-21F14AD5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4080" cy="7810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6B53C-BA78-4989-9076-68D00668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07600" y="4571640"/>
            <a:ext cx="5840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7160" cy="41529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if you build trust during the interview you are likely to get an answer to these quest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DD2-C46E-4D2C-8136-7853354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603-DFFB-43D1-9194-C2C24C74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D88-495E-40E6-BBFB-B0D1C613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351-8DE4-4C14-BB8F-A0654DA3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B8C-2139-4859-9933-B058570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02F-7F29-483F-86E3-7BF4B4DF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91F-5C60-4D08-BE07-61983487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971-21D9-49E7-8038-473377D8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1B5-074C-4043-BEF8-02AAC229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ECC-6F70-42AF-9EF8-81B4D50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EE1-00AE-4EB7-8B71-28EB165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2C1-7707-4F7B-9658-B822284D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405253-8077-4B9B-B855-4429973E2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CA9D0C-22B6-4E68-AB08-9397DB4E0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2233440"/>
            <a:ext cx="9144000" cy="2627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lue-balls"/>
          <p:cNvPicPr/>
          <p:nvPr/>
        </p:nvPicPr>
        <p:blipFill>
          <a:blip r:embed="rId1">
            <a:grayscl/>
          </a:blip>
          <a:stretch/>
        </p:blipFill>
        <p:spPr>
          <a:xfrm>
            <a:off x="0" y="2247840"/>
            <a:ext cx="2630520" cy="2614680"/>
          </a:xfrm>
          <a:prstGeom prst="rect">
            <a:avLst/>
          </a:prstGeom>
          <a:ln w="0">
            <a:noFill/>
          </a:ln>
        </p:spPr>
      </p:pic>
      <p:sp>
        <p:nvSpPr>
          <p:cNvPr id="89" name="McK Date"/>
          <p:cNvSpPr/>
          <p:nvPr/>
        </p:nvSpPr>
        <p:spPr>
          <a:xfrm>
            <a:off x="5349960" y="4330800"/>
            <a:ext cx="379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f8f8f8"/>
                </a:solidFill>
                <a:latin typeface="Calibri"/>
              </a:rPr>
              <a:t>Centre for Economic Performanc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890800" y="2496960"/>
            <a:ext cx="4572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</a:rPr>
              <a:t>Conducting and Scoring Management Interview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WMS-logofinal.jpg"/>
          <p:cNvPicPr/>
          <p:nvPr/>
        </p:nvPicPr>
        <p:blipFill>
          <a:blip r:embed="rId2"/>
          <a:stretch/>
        </p:blipFill>
        <p:spPr>
          <a:xfrm>
            <a:off x="0" y="0"/>
            <a:ext cx="3773520" cy="6984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8E28C7-BC54-4796-A9E2-1928AA3D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95160" y="1220760"/>
            <a:ext cx="12105000" cy="48639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089000" y="3502080"/>
            <a:ext cx="4626000" cy="258768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391440" y="1406520"/>
            <a:ext cx="78084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5"/>
          <p:cNvCxnSpPr>
            <a:stCxn id="133" idx="2"/>
            <a:endCxn id="135" idx="0"/>
          </p:cNvCxnSpPr>
          <p:nvPr/>
        </p:nvCxnSpPr>
        <p:spPr>
          <a:xfrm flipH="1" rot="16200000">
            <a:off x="7221240" y="1302840"/>
            <a:ext cx="461160" cy="1340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6" name="AutoShape 6"/>
          <p:cNvCxnSpPr>
            <a:stCxn id="137" idx="0"/>
            <a:endCxn id="133" idx="2"/>
          </p:cNvCxnSpPr>
          <p:nvPr/>
        </p:nvCxnSpPr>
        <p:spPr>
          <a:xfrm flipH="1" flipV="1" rot="5400000">
            <a:off x="5841000" y="1262520"/>
            <a:ext cx="461160" cy="14212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8" name="AutoShape 7"/>
          <p:cNvCxnSpPr>
            <a:stCxn id="137" idx="2"/>
            <a:endCxn id="139" idx="0"/>
          </p:cNvCxnSpPr>
          <p:nvPr/>
        </p:nvCxnSpPr>
        <p:spPr>
          <a:xfrm rot="5400000">
            <a:off x="4652280" y="2200320"/>
            <a:ext cx="369000" cy="1048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0" name="AutoShape 8"/>
          <p:cNvCxnSpPr>
            <a:stCxn id="137" idx="2"/>
            <a:endCxn id="141" idx="0"/>
          </p:cNvCxnSpPr>
          <p:nvPr/>
        </p:nvCxnSpPr>
        <p:spPr>
          <a:xfrm flipH="1" rot="16200000">
            <a:off x="5698080" y="2201760"/>
            <a:ext cx="369000" cy="1045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2" name="AutoShape 9"/>
          <p:cNvCxnSpPr>
            <a:stCxn id="135" idx="2"/>
            <a:endCxn id="143" idx="0"/>
          </p:cNvCxnSpPr>
          <p:nvPr/>
        </p:nvCxnSpPr>
        <p:spPr>
          <a:xfrm rot="5400000">
            <a:off x="7647840" y="2435040"/>
            <a:ext cx="369000" cy="578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5" idx="2"/>
            <a:endCxn id="145" idx="0"/>
          </p:cNvCxnSpPr>
          <p:nvPr/>
        </p:nvCxnSpPr>
        <p:spPr>
          <a:xfrm flipH="1" rot="16200000">
            <a:off x="8225280" y="2435040"/>
            <a:ext cx="369000" cy="578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7" name="Rectangle 11"/>
          <p:cNvSpPr/>
          <p:nvPr/>
        </p:nvSpPr>
        <p:spPr>
          <a:xfrm>
            <a:off x="4971960" y="2203560"/>
            <a:ext cx="77940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7397640" y="2203560"/>
            <a:ext cx="14464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O, CMO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029120" y="290844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119640" y="2908440"/>
            <a:ext cx="57024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257960" y="290844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8415360" y="290844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18"/>
          <p:cNvCxnSpPr>
            <a:stCxn id="141" idx="2"/>
            <a:endCxn id="147" idx="0"/>
          </p:cNvCxnSpPr>
          <p:nvPr/>
        </p:nvCxnSpPr>
        <p:spPr>
          <a:xfrm rot="5400000">
            <a:off x="5934960" y="3236760"/>
            <a:ext cx="461160" cy="480240"/>
          </a:xfrm>
          <a:prstGeom prst="bentConnector3">
            <a:avLst>
              <a:gd name="adj1" fmla="val 4976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8" name="AutoShape 19"/>
          <p:cNvCxnSpPr>
            <a:stCxn id="141" idx="2"/>
            <a:endCxn id="149" idx="0"/>
          </p:cNvCxnSpPr>
          <p:nvPr/>
        </p:nvCxnSpPr>
        <p:spPr>
          <a:xfrm flipH="1" rot="16200000">
            <a:off x="6434640" y="3215880"/>
            <a:ext cx="461160" cy="521640"/>
          </a:xfrm>
          <a:prstGeom prst="bentConnector3">
            <a:avLst>
              <a:gd name="adj1" fmla="val 497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Rectangle 20"/>
          <p:cNvSpPr/>
          <p:nvPr/>
        </p:nvSpPr>
        <p:spPr>
          <a:xfrm>
            <a:off x="5640480" y="370692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642000" y="370692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AutoShape 22"/>
          <p:cNvCxnSpPr>
            <a:stCxn id="139" idx="2"/>
            <a:endCxn id="151" idx="0"/>
          </p:cNvCxnSpPr>
          <p:nvPr/>
        </p:nvCxnSpPr>
        <p:spPr>
          <a:xfrm rot="5400000">
            <a:off x="3625920" y="3020040"/>
            <a:ext cx="461160" cy="913320"/>
          </a:xfrm>
          <a:prstGeom prst="bentConnector3">
            <a:avLst>
              <a:gd name="adj1" fmla="val 4976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AutoShape 23"/>
          <p:cNvCxnSpPr>
            <a:stCxn id="139" idx="2"/>
            <a:endCxn id="153" idx="0"/>
          </p:cNvCxnSpPr>
          <p:nvPr/>
        </p:nvCxnSpPr>
        <p:spPr>
          <a:xfrm flipH="1" rot="16200000">
            <a:off x="4458960" y="3099240"/>
            <a:ext cx="461160" cy="754920"/>
          </a:xfrm>
          <a:prstGeom prst="bentConnector3">
            <a:avLst>
              <a:gd name="adj1" fmla="val 497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Rectangle 24"/>
          <p:cNvSpPr/>
          <p:nvPr/>
        </p:nvSpPr>
        <p:spPr>
          <a:xfrm>
            <a:off x="3114720" y="370692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4781520" y="3706920"/>
            <a:ext cx="569880" cy="33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26"/>
          <p:cNvCxnSpPr>
            <a:stCxn id="151" idx="2"/>
            <a:endCxn id="155" idx="0"/>
          </p:cNvCxnSpPr>
          <p:nvPr/>
        </p:nvCxnSpPr>
        <p:spPr>
          <a:xfrm rot="5400000">
            <a:off x="2754360" y="4267800"/>
            <a:ext cx="869040" cy="423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AutoShape 27"/>
          <p:cNvCxnSpPr>
            <a:stCxn id="151" idx="2"/>
            <a:endCxn id="157" idx="0"/>
          </p:cNvCxnSpPr>
          <p:nvPr/>
        </p:nvCxnSpPr>
        <p:spPr>
          <a:xfrm flipH="1" rot="16200000">
            <a:off x="3172680" y="4271760"/>
            <a:ext cx="869040" cy="41508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8"/>
          <p:cNvSpPr/>
          <p:nvPr/>
        </p:nvSpPr>
        <p:spPr>
          <a:xfrm>
            <a:off x="2693880" y="4913280"/>
            <a:ext cx="5698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3529080" y="4913280"/>
            <a:ext cx="57132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795320" y="4913280"/>
            <a:ext cx="5698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31"/>
          <p:cNvCxnSpPr>
            <a:stCxn id="151" idx="2"/>
            <a:endCxn id="158" idx="0"/>
          </p:cNvCxnSpPr>
          <p:nvPr/>
        </p:nvCxnSpPr>
        <p:spPr>
          <a:xfrm rot="5400000">
            <a:off x="2305080" y="3818880"/>
            <a:ext cx="869040" cy="13212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60" name="Rectangle 32"/>
          <p:cNvSpPr/>
          <p:nvPr/>
        </p:nvSpPr>
        <p:spPr>
          <a:xfrm>
            <a:off x="4381560" y="4913280"/>
            <a:ext cx="5698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33"/>
          <p:cNvCxnSpPr>
            <a:stCxn id="151" idx="2"/>
            <a:endCxn id="160" idx="0"/>
          </p:cNvCxnSpPr>
          <p:nvPr/>
        </p:nvCxnSpPr>
        <p:spPr>
          <a:xfrm flipH="1" rot="16200000">
            <a:off x="3598920" y="3845520"/>
            <a:ext cx="869040" cy="126756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Oval 34"/>
          <p:cNvSpPr/>
          <p:nvPr/>
        </p:nvSpPr>
        <p:spPr>
          <a:xfrm>
            <a:off x="1092240" y="5769000"/>
            <a:ext cx="315720" cy="301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5"/>
          <p:cNvSpPr/>
          <p:nvPr/>
        </p:nvSpPr>
        <p:spPr>
          <a:xfrm>
            <a:off x="1512720" y="5775480"/>
            <a:ext cx="316080" cy="301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6"/>
          <p:cNvSpPr/>
          <p:nvPr/>
        </p:nvSpPr>
        <p:spPr>
          <a:xfrm>
            <a:off x="1919160" y="5772240"/>
            <a:ext cx="316080" cy="301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37"/>
          <p:cNvCxnSpPr>
            <a:stCxn id="158" idx="2"/>
            <a:endCxn id="162" idx="0"/>
          </p:cNvCxnSpPr>
          <p:nvPr/>
        </p:nvCxnSpPr>
        <p:spPr>
          <a:xfrm rot="5400000">
            <a:off x="1405080" y="5095080"/>
            <a:ext cx="519840" cy="829440"/>
          </a:xfrm>
          <a:prstGeom prst="bentConnector3">
            <a:avLst>
              <a:gd name="adj1" fmla="val 4982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6" name="AutoShape 38"/>
          <p:cNvCxnSpPr>
            <a:stCxn id="158" idx="2"/>
            <a:endCxn id="163" idx="0"/>
          </p:cNvCxnSpPr>
          <p:nvPr/>
        </p:nvCxnSpPr>
        <p:spPr>
          <a:xfrm rot="5400000">
            <a:off x="1612080" y="5308560"/>
            <a:ext cx="526320" cy="408960"/>
          </a:xfrm>
          <a:prstGeom prst="bentConnector3">
            <a:avLst>
              <a:gd name="adj1" fmla="val 4982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39"/>
          <p:cNvCxnSpPr>
            <a:stCxn id="158" idx="2"/>
            <a:endCxn id="164" idx="0"/>
          </p:cNvCxnSpPr>
          <p:nvPr/>
        </p:nvCxnSpPr>
        <p:spPr>
          <a:xfrm rot="5400000">
            <a:off x="1816920" y="5509800"/>
            <a:ext cx="523080" cy="2520"/>
          </a:xfrm>
          <a:prstGeom prst="bentConnector3">
            <a:avLst>
              <a:gd name="adj1" fmla="val 497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68" name="Oval 40"/>
          <p:cNvSpPr/>
          <p:nvPr/>
        </p:nvSpPr>
        <p:spPr>
          <a:xfrm>
            <a:off x="2322360" y="5772240"/>
            <a:ext cx="316080" cy="301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41"/>
          <p:cNvCxnSpPr>
            <a:stCxn id="158" idx="2"/>
            <a:endCxn id="168" idx="0"/>
          </p:cNvCxnSpPr>
          <p:nvPr/>
        </p:nvCxnSpPr>
        <p:spPr>
          <a:xfrm flipH="1" rot="16200000">
            <a:off x="2018160" y="5310000"/>
            <a:ext cx="523080" cy="402120"/>
          </a:xfrm>
          <a:prstGeom prst="bentConnector3">
            <a:avLst>
              <a:gd name="adj1" fmla="val 497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0" name="Oval 42"/>
          <p:cNvSpPr/>
          <p:nvPr/>
        </p:nvSpPr>
        <p:spPr>
          <a:xfrm>
            <a:off x="2709720" y="5772240"/>
            <a:ext cx="316080" cy="301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3"/>
          <p:cNvCxnSpPr>
            <a:stCxn id="158" idx="2"/>
            <a:endCxn id="170" idx="0"/>
          </p:cNvCxnSpPr>
          <p:nvPr/>
        </p:nvCxnSpPr>
        <p:spPr>
          <a:xfrm flipH="1" rot="16200000">
            <a:off x="2211840" y="5116320"/>
            <a:ext cx="523080" cy="789480"/>
          </a:xfrm>
          <a:prstGeom prst="bentConnector3">
            <a:avLst>
              <a:gd name="adj1" fmla="val 497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Oval 44"/>
          <p:cNvSpPr/>
          <p:nvPr/>
        </p:nvSpPr>
        <p:spPr>
          <a:xfrm>
            <a:off x="3112920" y="5772240"/>
            <a:ext cx="316080" cy="301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45"/>
          <p:cNvCxnSpPr>
            <a:stCxn id="158" idx="2"/>
            <a:endCxn id="172" idx="0"/>
          </p:cNvCxnSpPr>
          <p:nvPr/>
        </p:nvCxnSpPr>
        <p:spPr>
          <a:xfrm flipH="1" rot="16200000">
            <a:off x="2413080" y="4914720"/>
            <a:ext cx="523080" cy="1192320"/>
          </a:xfrm>
          <a:prstGeom prst="bentConnector3">
            <a:avLst>
              <a:gd name="adj1" fmla="val 497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Rectangle 46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7"/>
          <p:cNvSpPr/>
          <p:nvPr/>
        </p:nvSpPr>
        <p:spPr>
          <a:xfrm>
            <a:off x="2274840" y="1584360"/>
            <a:ext cx="1068480" cy="2241360"/>
          </a:xfrm>
          <a:custGeom>
            <a:avLst/>
            <a:gdLst>
              <a:gd name="textAreaLeft" fmla="*/ 0 w 1068480"/>
              <a:gd name="textAreaRight" fmla="*/ 1068840 w 1068480"/>
              <a:gd name="textAreaTop" fmla="*/ 867960 h 2241360"/>
              <a:gd name="textAreaBottom" fmla="*/ 1373400 h 2241360"/>
            </a:gdLst>
            <a:ahLst/>
            <a:rect l="textAreaLeft" t="textAreaTop" r="textAreaRight" b="textAreaBottom"/>
            <a:pathLst>
              <a:path w="21600" h="21600">
                <a:moveTo>
                  <a:pt x="0" y="8365"/>
                </a:moveTo>
                <a:lnTo>
                  <a:pt x="0" y="13235"/>
                </a:lnTo>
                <a:lnTo>
                  <a:pt x="8116" y="13235"/>
                </a:lnTo>
                <a:lnTo>
                  <a:pt x="8116" y="19181"/>
                </a:lnTo>
                <a:lnTo>
                  <a:pt x="6239" y="19181"/>
                </a:lnTo>
                <a:lnTo>
                  <a:pt x="10800" y="21600"/>
                </a:lnTo>
                <a:lnTo>
                  <a:pt x="15361" y="19181"/>
                </a:lnTo>
                <a:lnTo>
                  <a:pt x="13484" y="19181"/>
                </a:lnTo>
                <a:lnTo>
                  <a:pt x="13484" y="13235"/>
                </a:lnTo>
                <a:lnTo>
                  <a:pt x="21600" y="13235"/>
                </a:lnTo>
                <a:lnTo>
                  <a:pt x="21600" y="8365"/>
                </a:lnTo>
                <a:lnTo>
                  <a:pt x="13484" y="8365"/>
                </a:lnTo>
                <a:lnTo>
                  <a:pt x="13484" y="2419"/>
                </a:lnTo>
                <a:lnTo>
                  <a:pt x="15361" y="2419"/>
                </a:lnTo>
                <a:lnTo>
                  <a:pt x="10800" y="0"/>
                </a:lnTo>
                <a:lnTo>
                  <a:pt x="6239" y="2419"/>
                </a:lnTo>
                <a:lnTo>
                  <a:pt x="8116" y="2419"/>
                </a:lnTo>
                <a:lnTo>
                  <a:pt x="8116" y="8365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nt Aut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8"/>
          <p:cNvSpPr/>
          <p:nvPr/>
        </p:nvSpPr>
        <p:spPr>
          <a:xfrm>
            <a:off x="214200" y="3878280"/>
            <a:ext cx="1141560" cy="2176560"/>
          </a:xfrm>
          <a:custGeom>
            <a:avLst/>
            <a:gdLst>
              <a:gd name="textAreaLeft" fmla="*/ 0 w 1141560"/>
              <a:gd name="textAreaRight" fmla="*/ 1141920 w 1141560"/>
              <a:gd name="textAreaTop" fmla="*/ 827640 h 2176560"/>
              <a:gd name="textAreaBottom" fmla="*/ 1348920 h 2176560"/>
            </a:gdLst>
            <a:ahLst/>
            <a:rect l="textAreaLeft" t="textAreaTop" r="textAreaRight" b="textAreaBottom"/>
            <a:pathLst>
              <a:path w="21600" h="21600">
                <a:moveTo>
                  <a:pt x="0" y="8213"/>
                </a:moveTo>
                <a:lnTo>
                  <a:pt x="0" y="13387"/>
                </a:lnTo>
                <a:lnTo>
                  <a:pt x="8391" y="13387"/>
                </a:lnTo>
                <a:lnTo>
                  <a:pt x="8391" y="19045"/>
                </a:lnTo>
                <a:lnTo>
                  <a:pt x="6658" y="19045"/>
                </a:lnTo>
                <a:lnTo>
                  <a:pt x="10800" y="21600"/>
                </a:lnTo>
                <a:lnTo>
                  <a:pt x="14942" y="19045"/>
                </a:lnTo>
                <a:lnTo>
                  <a:pt x="13209" y="19045"/>
                </a:lnTo>
                <a:lnTo>
                  <a:pt x="13209" y="13387"/>
                </a:lnTo>
                <a:lnTo>
                  <a:pt x="21600" y="13387"/>
                </a:lnTo>
                <a:lnTo>
                  <a:pt x="21600" y="8213"/>
                </a:lnTo>
                <a:lnTo>
                  <a:pt x="13209" y="8213"/>
                </a:lnTo>
                <a:lnTo>
                  <a:pt x="13209" y="2555"/>
                </a:lnTo>
                <a:lnTo>
                  <a:pt x="14942" y="2555"/>
                </a:lnTo>
                <a:lnTo>
                  <a:pt x="10800" y="0"/>
                </a:lnTo>
                <a:lnTo>
                  <a:pt x="6658" y="2555"/>
                </a:lnTo>
                <a:lnTo>
                  <a:pt x="8391" y="2555"/>
                </a:lnTo>
                <a:lnTo>
                  <a:pt x="8391" y="8213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orker Aut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9"/>
          <p:cNvSpPr/>
          <p:nvPr/>
        </p:nvSpPr>
        <p:spPr>
          <a:xfrm>
            <a:off x="426960" y="3851280"/>
            <a:ext cx="2567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0"/>
          <p:cNvSpPr/>
          <p:nvPr/>
        </p:nvSpPr>
        <p:spPr>
          <a:xfrm>
            <a:off x="2617920" y="1558800"/>
            <a:ext cx="36795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1"/>
          <p:cNvSpPr/>
          <p:nvPr/>
        </p:nvSpPr>
        <p:spPr>
          <a:xfrm>
            <a:off x="426960" y="6089760"/>
            <a:ext cx="2567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6051600" y="4964040"/>
            <a:ext cx="933480" cy="504720"/>
          </a:xfr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nt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8055000" y="1287360"/>
            <a:ext cx="933480" cy="503280"/>
          </a:xfr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m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1841400" y="4145040"/>
            <a:ext cx="3092400" cy="325440"/>
          </a:xfrm>
          <a:prstGeom prst="leftRightArrow">
            <a:avLst>
              <a:gd name="adj1" fmla="val 69787"/>
              <a:gd name="adj2" fmla="val 12097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rol Span (# direct re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5"/>
          <p:cNvSpPr/>
          <p:nvPr/>
        </p:nvSpPr>
        <p:spPr>
          <a:xfrm rot="3253800">
            <a:off x="1044000" y="2033640"/>
            <a:ext cx="360" cy="390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6"/>
          <p:cNvSpPr/>
          <p:nvPr/>
        </p:nvSpPr>
        <p:spPr>
          <a:xfrm>
            <a:off x="101520" y="158760"/>
            <a:ext cx="904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FIRM AND PLANT LEVEL MEASURES OF ORGANISATIONAL STRUCTURE AND AUTONOMY</a:t>
            </a:r>
            <a:r>
              <a:rPr b="0" lang="en-GB" sz="23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2D485-E350-4555-B9A0-47A545E8C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52440" y="1420920"/>
            <a:ext cx="8148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65120" indent="-46512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 the two task allocation and pace of work questions consisten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6080" y="1981080"/>
            <a:ext cx="7323120" cy="1292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380880" y="3778200"/>
            <a:ext cx="732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Offer the range of answers starting from All Mana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[All Managers, Mostly Managers, About Equal, Mostly Workers or All Worker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520" y="158760"/>
            <a:ext cx="8528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5f5f5f"/>
                </a:solidFill>
                <a:latin typeface="Calibri"/>
              </a:rPr>
              <a:t>ORGANISATION SECTION DEMANDS CONSISTENT TECHNIQUES ACROSS ANALY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50A0CD-8D4A-4480-927D-CC982B985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01520" y="158760"/>
            <a:ext cx="904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DIFFERENTIATING BETWEEN PLANT AND PLANT MANAGER AUTONOMY IS KEY ON SECOND ORGANIZATION SE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92040" y="914400"/>
            <a:ext cx="836604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D9D317-7DC0-4973-862D-97D739BA2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2240" y="1438200"/>
            <a:ext cx="5740200" cy="407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r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ull time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erman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worker (does not have to be new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o sign-off required/ complete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duct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es and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mall firms without a CHQ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istinguish between the manufactur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epartment/manager and the rest of th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easibility stud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7964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 of product exported out of country for that plant, not firm (% sales, not 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880">
              <a:lnSpc>
                <a:spcPct val="100000"/>
              </a:lnSpc>
              <a:buClr>
                <a:srgbClr val="0b1f65"/>
              </a:buClr>
              <a:buFont typeface="Arial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6603840" y="2387520"/>
            <a:ext cx="1998360" cy="2314440"/>
            <a:chOff x="6603840" y="2387520"/>
            <a:chExt cx="1998360" cy="2314440"/>
          </a:xfrm>
        </p:grpSpPr>
        <p:sp>
          <p:nvSpPr>
            <p:cNvPr id="196" name="Rectangle 4"/>
            <p:cNvSpPr/>
            <p:nvPr/>
          </p:nvSpPr>
          <p:spPr>
            <a:xfrm>
              <a:off x="6603840" y="2387520"/>
              <a:ext cx="1998360" cy="2314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6822720" y="2545920"/>
              <a:ext cx="16358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Interviewers should push back when managers claim to have too much responsibilit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6"/>
          <p:cNvSpPr/>
          <p:nvPr/>
        </p:nvSpPr>
        <p:spPr>
          <a:xfrm>
            <a:off x="101520" y="158760"/>
            <a:ext cx="904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DIFFERENTIATING BETWEEN PLANT AND PLANT MANAGER AUTONOMY IS KEY ON SECOND ORGANIZATION SE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A86A47-BAC1-4B57-9A78-77A2E1643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130400"/>
          <a:ext cx="9144000" cy="5727600"/>
        </p:xfrm>
        <a:graphic>
          <a:graphicData uri="http://schemas.openxmlformats.org/drawingml/2006/table">
            <a:tbl>
              <a:tblPr/>
              <a:tblGrid>
                <a:gridCol w="2133720"/>
                <a:gridCol w="7010280"/>
              </a:tblGrid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ersed Sharehol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ingle entity (person, family  or company) owns more than 25,01% of the shares, i.e.  no entity owns a controlling stak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timately owned by a GUO, itself owned by D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s category does not include Cooperatives or Management types of GU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e Individu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ne or more private individuals own a controlling stake and they are not the founders  or heirs to the founders of the compan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r example, this applies to companies that have been acquired by a family or other individuals from a previous owner or the founding enti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y/ Founder ow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mpany Founder or Founding family still own the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mpany managers and executives own the controlling stak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s  is not to be confused with cooperative/employee ownership and private individuals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ompany is majority owned by a government or state enterprise. This can be of the same nationality as the company or a foreign on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e Equity or Venture Capi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rivate equity, venture capital or investment fund type of enterprise  own the company after acquisition and usually for restructuring purpos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 PE/VC company were owned by a Bank or private individuals or other entity, the ownership would still be defined as PE or V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s/C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to be confused with Dispersed sharehold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is of employees (not just managers). Name of company is usually a givea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t Ven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entities founded the company and both own at least 25% of the shares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so, when applicable, Joint Venture is defined as a 50-50 owner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ndation/Research Instit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oundation/Research Institute/ University or similar own the controlling sta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ding Company, Financial Company (ex. Bank) or a Non-Governmental Organizatio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to be used when ownership cannot be defined as any of the abov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0"/>
          <p:cNvSpPr/>
          <p:nvPr/>
        </p:nvSpPr>
        <p:spPr>
          <a:xfrm>
            <a:off x="101520" y="46512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OWNERSHIP TYPE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BB23A-D307-425C-910D-A7AC5A69B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5829480" y="2049480"/>
            <a:ext cx="3238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cesses and behaviour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Optimise production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reate maximal value from physical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781680" y="4162320"/>
            <a:ext cx="228600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cesses and behaviours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Optimise quality of w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ximise human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6320" y="3276720"/>
            <a:ext cx="2701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sses and goal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sh physical and human aspect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of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lign efforts of the whole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6"/>
          <p:cNvSpPr/>
          <p:nvPr/>
        </p:nvSpPr>
        <p:spPr>
          <a:xfrm flipV="1">
            <a:off x="3416400" y="1726560"/>
            <a:ext cx="2247840" cy="2289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 flipV="1">
            <a:off x="2427120" y="3463200"/>
            <a:ext cx="2248200" cy="22906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 flipV="1">
            <a:off x="4405320" y="3463200"/>
            <a:ext cx="2247840" cy="2290680"/>
          </a:xfrm>
          <a:prstGeom prst="ellipse">
            <a:avLst/>
          </a:prstGeom>
          <a:solidFill>
            <a:srgbClr val="d0d0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 flipV="1">
            <a:off x="2427120" y="3463200"/>
            <a:ext cx="2248200" cy="229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 flipV="1">
            <a:off x="4405320" y="3463200"/>
            <a:ext cx="2247840" cy="229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 flipV="1">
            <a:off x="3416400" y="1726560"/>
            <a:ext cx="2247840" cy="2289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2517840" y="4248000"/>
            <a:ext cx="1833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targ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753080" y="4492080"/>
            <a:ext cx="177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l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657600" y="25844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n shopfloor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 rot="3663000">
            <a:off x="4886640" y="3207600"/>
            <a:ext cx="273240" cy="1074600"/>
          </a:xfrm>
          <a:custGeom>
            <a:avLst/>
            <a:gdLst>
              <a:gd name="textAreaLeft" fmla="*/ 0 w 273240"/>
              <a:gd name="textAreaRight" fmla="*/ 273600 w 27324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6"/>
          <p:cNvSpPr/>
          <p:nvPr/>
        </p:nvSpPr>
        <p:spPr>
          <a:xfrm rot="17973600">
            <a:off x="3912120" y="3206880"/>
            <a:ext cx="273240" cy="1074960"/>
          </a:xfrm>
          <a:custGeom>
            <a:avLst/>
            <a:gdLst>
              <a:gd name="textAreaLeft" fmla="*/ 0 w 273240"/>
              <a:gd name="textAreaRight" fmla="*/ 273600 w 27324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"/>
          <p:cNvSpPr/>
          <p:nvPr/>
        </p:nvSpPr>
        <p:spPr>
          <a:xfrm rot="10800000">
            <a:off x="4408560" y="4062240"/>
            <a:ext cx="257040" cy="1136880"/>
          </a:xfrm>
          <a:custGeom>
            <a:avLst/>
            <a:gdLst>
              <a:gd name="textAreaLeft" fmla="*/ 0 w 257040"/>
              <a:gd name="textAreaRight" fmla="*/ 257400 w 257040"/>
              <a:gd name="textAreaTop" fmla="*/ 0 h 1136880"/>
              <a:gd name="textAreaBottom" fmla="*/ 1137240 h 113688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25560" y="1003320"/>
            <a:ext cx="914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views of about 45 minutes were conducted to examin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rial practices in three mai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01520" y="46512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INTERVIEW METHOD FOCUSES ON MAIN AREAS OF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4ED9E5-3607-41B7-BD35-43CDC2ECC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271440" y="1219320"/>
            <a:ext cx="1452600" cy="622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246240" y="3111480"/>
            <a:ext cx="1471320" cy="62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6000" y="4940280"/>
            <a:ext cx="1469880" cy="62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949400" y="3108240"/>
            <a:ext cx="70344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 question:  “What are the main goals or targets set for the firm and/or how much do employees understand them?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1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als are based purely on accounting figures (with no clear connection to shareholder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3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porate goals are based on shareholder value but are not clearly communicated down to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5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porate goals focus on shareholder value. They increase in specificity as they cascade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ough business units ultimately defining individual performance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949400" y="4935600"/>
            <a:ext cx="703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 question:  “What happens to poor performers, and/or What do you do when you have an employee who cannot do his/her job?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1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or performers are rarely removed from their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3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spected poor performers stay in a position for a few years before action is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5: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move poor performers out of the company or to less critical roles as soon as a weakness i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dentifie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949400" y="1219320"/>
            <a:ext cx="70344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 question: “Tell me how you track production performance?, and/ or  What kind of KPI’s do you use for performance tra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1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reviewed infrequently or in an un-meaningful way e.g. only success or failure  i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3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reviewed periodically with successes and failures identified. Results ar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ed to senior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core 5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continually reviewed, based on indicators tracked. All aspects are followed up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sure  continuous improvement. Results are communicated to all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31760" y="423720"/>
            <a:ext cx="904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ND THE SCORING PROCESS USES AN ORDINAL 1-5 SCORING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2DECCC-EC7C-44A8-819F-237A07349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2"/>
          <p:cNvSpPr/>
          <p:nvPr/>
        </p:nvSpPr>
        <p:spPr>
          <a:xfrm>
            <a:off x="4800600" y="342900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696080" y="3568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397160" y="3568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5895" t="0" r="0" b="0"/>
          <a:stretch/>
        </p:blipFill>
        <p:spPr>
          <a:xfrm>
            <a:off x="557280" y="1028880"/>
            <a:ext cx="7927920" cy="5260680"/>
          </a:xfrm>
          <a:prstGeom prst="rect">
            <a:avLst/>
          </a:prstGeom>
          <a:ln w="0">
            <a:noFill/>
          </a:ln>
        </p:spPr>
      </p:pic>
      <p:sp>
        <p:nvSpPr>
          <p:cNvPr id="233" name="McK Measure"/>
          <p:cNvSpPr/>
          <p:nvPr/>
        </p:nvSpPr>
        <p:spPr>
          <a:xfrm>
            <a:off x="3170160" y="5932440"/>
            <a:ext cx="294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agement self-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cK Measure"/>
          <p:cNvSpPr/>
          <p:nvPr/>
        </p:nvSpPr>
        <p:spPr>
          <a:xfrm>
            <a:off x="4246560" y="3106800"/>
            <a:ext cx="132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ra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cK Measure"/>
          <p:cNvSpPr/>
          <p:nvPr/>
        </p:nvSpPr>
        <p:spPr>
          <a:xfrm>
            <a:off x="893880" y="2954160"/>
            <a:ext cx="1326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rst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cK Measure"/>
          <p:cNvSpPr/>
          <p:nvPr/>
        </p:nvSpPr>
        <p:spPr>
          <a:xfrm>
            <a:off x="7412040" y="2879640"/>
            <a:ext cx="1325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st Pract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cK Measure"/>
          <p:cNvSpPr/>
          <p:nvPr/>
        </p:nvSpPr>
        <p:spPr>
          <a:xfrm rot="16200000">
            <a:off x="-1051920" y="3051000"/>
            <a:ext cx="294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hare of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1352520" y="1201680"/>
            <a:ext cx="4267080" cy="20494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701720" y="1628640"/>
            <a:ext cx="37339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sponse to the Question “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xcluding yourself, how would you rate your company’s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rom 1 to 10, one being the worst and ten being the best?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31760" y="152280"/>
            <a:ext cx="9040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THIS IS COMPLICATED AS MOST MANAGERS THINK THAT THEIR FIRM’S MANAGEMENT IS WELL ABOVE A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6FCBD9-36E0-4B5E-8BD2-158214877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13461"/>
          <a:stretch/>
        </p:blipFill>
        <p:spPr>
          <a:xfrm>
            <a:off x="90360" y="1206360"/>
            <a:ext cx="8088480" cy="5121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304920" y="1101600"/>
            <a:ext cx="883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score on 18 management practice questions and self-assessed management score, b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040520" y="1617840"/>
            <a:ext cx="181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f-Assesse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040520" y="2178000"/>
            <a:ext cx="1717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Management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8712360" y="1722600"/>
            <a:ext cx="144360" cy="168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04920" y="6432480"/>
            <a:ext cx="7924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te: Self-assessed management the response to the question “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xcluding yourself, how well managed is your firm on a scale of 1 to 10, where 1 is worst practices, 10 is best practice and 5 is average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”. Scores are divided by 2 to put them on the same scale as our management sc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8712360" y="2265480"/>
            <a:ext cx="144360" cy="1699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31760" y="152280"/>
            <a:ext cx="9040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BUT THE REALITY IS THAT MANAGEMENT PRACTICES VARY SUBSTANTIALLY ACROSS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AD208F-3249-4035-B4EE-77BF31E2B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922320" y="3567240"/>
            <a:ext cx="1635120" cy="712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922320" y="1727280"/>
            <a:ext cx="1635120" cy="712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i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922320" y="5154480"/>
            <a:ext cx="1635120" cy="712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tinguish opin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 hidden="1"/>
          <p:cNvSpPr/>
          <p:nvPr/>
        </p:nvSpPr>
        <p:spPr>
          <a:xfrm>
            <a:off x="0" y="-21924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946240" y="1727280"/>
            <a:ext cx="5467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Successful techniques involve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mmonality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, practice and professionalis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Ask the same questions, in the same order each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ractice beforehand so you have a rhythm through the 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nsure manager is comfortable and not aware he or she is being “grad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946240" y="3567240"/>
            <a:ext cx="54676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anguage matters a great 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resent versus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robe without fee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Open versus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49480" y="5154480"/>
            <a:ext cx="54691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erception versus reality is often m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Managers opinion (and tenure) heavily influences 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922320" y="3467160"/>
            <a:ext cx="729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2971800" y="1469880"/>
            <a:ext cx="524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921040" y="1209600"/>
            <a:ext cx="546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922320" y="5037120"/>
            <a:ext cx="729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01520" y="217440"/>
            <a:ext cx="904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COMPARING INTERVIEWS ACROSS COUTRIES IS ENSURED BY PROPER CALIBRATION ACROSS INTERVIEWS AND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4FACA2-7996-4877-A8DF-5A0B8F252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5280" y="1298160"/>
            <a:ext cx="87933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ould your tactics be to get managers on the ph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think will work for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YOU agree to particip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1520" y="507960"/>
            <a:ext cx="745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BREAKOUT 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34F57-0A26-4D3A-869B-1D9486F59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3160" y="1078560"/>
            <a:ext cx="195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y scoring is difficul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87440" y="1454040"/>
            <a:ext cx="2047680" cy="1154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estimating interviewees’ con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87440" y="2757600"/>
            <a:ext cx="20192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eeding the question and/or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87440" y="4075200"/>
            <a:ext cx="2047680" cy="1154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verloading with too many points OR neglecting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87440" y="5394240"/>
            <a:ext cx="20476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ing future versus present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627280" y="145404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terviewee is addressing a different dimension and/or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627280" y="275760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terviewee tends to agree or answer with a short, unhelpful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627280" y="4075200"/>
            <a:ext cx="28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nager only touches on one dimension of the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2627280" y="539424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nager speaks on things that will (or should happen) but they are scored as present-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 rot="5400000">
            <a:off x="5294520" y="5881680"/>
            <a:ext cx="933120" cy="1778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 rot="5400000">
            <a:off x="5295240" y="1942200"/>
            <a:ext cx="931680" cy="1778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 rot="5400000">
            <a:off x="5294160" y="3244680"/>
            <a:ext cx="933480" cy="1778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 rot="5400000">
            <a:off x="5294160" y="4562280"/>
            <a:ext cx="933480" cy="1778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2600" bIns="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113520" y="1086480"/>
            <a:ext cx="202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st prac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113520" y="1368360"/>
            <a:ext cx="20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6113520" y="1454040"/>
            <a:ext cx="202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learly keep focus on target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6113520" y="2757600"/>
            <a:ext cx="202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Seek rather than giv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6113520" y="4075200"/>
            <a:ext cx="202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nsure proper answer before mov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6113520" y="5394240"/>
            <a:ext cx="2027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larify what is in place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now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 versus ideas on what should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1"/>
          <p:cNvSpPr/>
          <p:nvPr/>
        </p:nvSpPr>
        <p:spPr>
          <a:xfrm>
            <a:off x="487440" y="1368360"/>
            <a:ext cx="49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131760" y="533520"/>
            <a:ext cx="904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BUT THIS BECOMES COMPLICATED DUE TO A FEW COMMON TEND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7EFF4D-1768-4EEF-B2EF-3AA6841F8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307800" y="1362240"/>
            <a:ext cx="8379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lso a large literature looking at CEOs (managers) – for example Jack Welch, Bill Walsh or Alex Fergu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rial attitudes and perceptions of “best practice” are not always the practices/processe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practices are more so than the managers themselves, but personality can be a strong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nalysts are trained to watch for this dis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le managers drive the extent to which this in place – scoring involves going beyond one manager (if this manager left tomorrow, would the firm still implement this proces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1520" y="158760"/>
            <a:ext cx="904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BEFORE DISCUSSING “MANAGEMENT PRACTICES,” WE NEED TO POINT OUT THAT THIS IS DIFFERENT FROM MANA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E47C11-4BF0-4951-BDAB-90638C06F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035080" y="1774800"/>
            <a:ext cx="677232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293920" y="3505320"/>
            <a:ext cx="649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11120" y="1774800"/>
            <a:ext cx="1959120" cy="38322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0" y="0"/>
                </a:lnTo>
                <a:lnTo>
                  <a:pt x="21600" y="10800"/>
                </a:lnTo>
                <a:lnTo>
                  <a:pt x="181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865760" y="1809720"/>
            <a:ext cx="1595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ing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73040" y="1882800"/>
            <a:ext cx="2451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sequ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73040" y="2911680"/>
            <a:ext cx="14223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 whether differing levels of (personal) performance lead to different consequences (good or b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392200" y="2363760"/>
            <a:ext cx="197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ailure to achieve agreed objectives does not carry any consequen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606920" y="2363760"/>
            <a:ext cx="19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ailure to achieve agreed results is tolerated for a period before action is tak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778800" y="2363760"/>
            <a:ext cx="197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failure to achieve agreed targets drives retraining in identified areas of weakness or moving individuals to where their skills are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"/>
          <p:cNvGrpSpPr/>
          <p:nvPr/>
        </p:nvGrpSpPr>
        <p:grpSpPr>
          <a:xfrm>
            <a:off x="8183520" y="1107720"/>
            <a:ext cx="887040" cy="618120"/>
            <a:chOff x="8183520" y="1107720"/>
            <a:chExt cx="887040" cy="618120"/>
          </a:xfrm>
        </p:grpSpPr>
        <p:sp>
          <p:nvSpPr>
            <p:cNvPr id="299" name="Oval 12"/>
            <p:cNvSpPr/>
            <p:nvPr/>
          </p:nvSpPr>
          <p:spPr>
            <a:xfrm flipV="1">
              <a:off x="8502480" y="1107360"/>
              <a:ext cx="2653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"/>
            <p:cNvSpPr/>
            <p:nvPr/>
          </p:nvSpPr>
          <p:spPr>
            <a:xfrm flipV="1">
              <a:off x="8384400" y="1301400"/>
              <a:ext cx="266760" cy="255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4"/>
            <p:cNvSpPr/>
            <p:nvPr/>
          </p:nvSpPr>
          <p:spPr>
            <a:xfrm flipV="1">
              <a:off x="8619120" y="1301400"/>
              <a:ext cx="2671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8183520" y="1573200"/>
              <a:ext cx="88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6"/>
          <p:cNvGrpSpPr/>
          <p:nvPr/>
        </p:nvGrpSpPr>
        <p:grpSpPr>
          <a:xfrm>
            <a:off x="411120" y="5656320"/>
            <a:ext cx="8397720" cy="744480"/>
            <a:chOff x="411120" y="5656320"/>
            <a:chExt cx="8397720" cy="744480"/>
          </a:xfrm>
        </p:grpSpPr>
        <p:sp>
          <p:nvSpPr>
            <p:cNvPr id="304" name="Rectangle 17"/>
            <p:cNvSpPr/>
            <p:nvPr/>
          </p:nvSpPr>
          <p:spPr>
            <a:xfrm>
              <a:off x="411120" y="5656320"/>
              <a:ext cx="839772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"/>
            <p:cNvSpPr/>
            <p:nvPr/>
          </p:nvSpPr>
          <p:spPr>
            <a:xfrm>
              <a:off x="8112600" y="5656320"/>
              <a:ext cx="69624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19"/>
          <p:cNvSpPr/>
          <p:nvPr/>
        </p:nvSpPr>
        <p:spPr>
          <a:xfrm>
            <a:off x="7070760" y="574992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e gi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73040" y="5707080"/>
            <a:ext cx="245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iewer notes/quo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1"/>
          <p:cNvSpPr/>
          <p:nvPr/>
        </p:nvSpPr>
        <p:spPr>
          <a:xfrm>
            <a:off x="3157560" y="2060640"/>
            <a:ext cx="23328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2"/>
          <p:cNvSpPr/>
          <p:nvPr/>
        </p:nvSpPr>
        <p:spPr>
          <a:xfrm>
            <a:off x="5452920" y="2060640"/>
            <a:ext cx="23364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3"/>
          <p:cNvSpPr/>
          <p:nvPr/>
        </p:nvSpPr>
        <p:spPr>
          <a:xfrm>
            <a:off x="7405560" y="2060640"/>
            <a:ext cx="23364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2438280" y="3657600"/>
            <a:ext cx="6159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xample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Let’s say you’ve agreed to a follow up plan at one of your meetings, what would happen if the plan weren’t enac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long is it between when a problem is identified to when it is solved? Can you give me a recent examp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do you deal with repeated failures in a specific business segment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131760" y="152280"/>
            <a:ext cx="904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CERTAIN QUESTIONS GENERATE THE MOST </a:t>
            </a:r>
            <a:r>
              <a:rPr b="1" i="1" lang="en-GB" sz="2200" spc="-1" strike="noStrike">
                <a:solidFill>
                  <a:srgbClr val="5f5f5f"/>
                </a:solidFill>
                <a:latin typeface="Calibri"/>
              </a:rPr>
              <a:t>EARLY 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ORING DISCREPANCY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6E50F-D851-44F9-A1BE-063EBDA75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035080" y="1774800"/>
            <a:ext cx="677232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2293920" y="3503520"/>
            <a:ext cx="649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411120" y="1774800"/>
            <a:ext cx="1959120" cy="38322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0" y="0"/>
                </a:lnTo>
                <a:lnTo>
                  <a:pt x="21600" y="10800"/>
                </a:lnTo>
                <a:lnTo>
                  <a:pt x="181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249800" y="1779480"/>
            <a:ext cx="159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ing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473040" y="1882800"/>
            <a:ext cx="24512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alance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rconnec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473040" y="3276360"/>
            <a:ext cx="1422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whether targets cover a sufficiently broad set of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2392200" y="2363760"/>
            <a:ext cx="151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Goals are exclusively financial or oper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4073400" y="2363760"/>
            <a:ext cx="1865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Goals include non-financial targets, which form part of the performance appraisal of top management only (they are not reinforced throughout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rest of organis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048360" y="2363760"/>
            <a:ext cx="2706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Goals are a balance of financial and non-financial targets. Senior managers believe the non-financial targets are often more inspiring and challenging than financials 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8183520" y="1107720"/>
            <a:ext cx="887040" cy="618120"/>
            <a:chOff x="8183520" y="1107720"/>
            <a:chExt cx="887040" cy="618120"/>
          </a:xfrm>
        </p:grpSpPr>
        <p:sp>
          <p:nvSpPr>
            <p:cNvPr id="324" name="Oval 12"/>
            <p:cNvSpPr/>
            <p:nvPr/>
          </p:nvSpPr>
          <p:spPr>
            <a:xfrm flipV="1">
              <a:off x="8502480" y="1107360"/>
              <a:ext cx="2653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3"/>
            <p:cNvSpPr/>
            <p:nvPr/>
          </p:nvSpPr>
          <p:spPr>
            <a:xfrm flipV="1">
              <a:off x="8384400" y="1301400"/>
              <a:ext cx="266760" cy="255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 flipV="1">
              <a:off x="8619120" y="1301400"/>
              <a:ext cx="2671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/>
            <p:cNvSpPr/>
            <p:nvPr/>
          </p:nvSpPr>
          <p:spPr>
            <a:xfrm>
              <a:off x="8183520" y="1573200"/>
              <a:ext cx="88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411120" y="5656320"/>
            <a:ext cx="8397720" cy="735120"/>
            <a:chOff x="411120" y="5656320"/>
            <a:chExt cx="8397720" cy="735120"/>
          </a:xfrm>
        </p:grpSpPr>
        <p:sp>
          <p:nvSpPr>
            <p:cNvPr id="329" name="Rectangle 17"/>
            <p:cNvSpPr/>
            <p:nvPr/>
          </p:nvSpPr>
          <p:spPr>
            <a:xfrm>
              <a:off x="411120" y="5656320"/>
              <a:ext cx="8397720" cy="73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"/>
            <p:cNvSpPr/>
            <p:nvPr/>
          </p:nvSpPr>
          <p:spPr>
            <a:xfrm>
              <a:off x="8112600" y="5656320"/>
              <a:ext cx="696240" cy="28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9"/>
          <p:cNvSpPr/>
          <p:nvPr/>
        </p:nvSpPr>
        <p:spPr>
          <a:xfrm>
            <a:off x="7070760" y="574992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e gi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473040" y="5707080"/>
            <a:ext cx="245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iewer notes/quo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3157560" y="2060640"/>
            <a:ext cx="23328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2"/>
          <p:cNvSpPr/>
          <p:nvPr/>
        </p:nvSpPr>
        <p:spPr>
          <a:xfrm>
            <a:off x="4919760" y="2060640"/>
            <a:ext cx="23328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3"/>
          <p:cNvSpPr/>
          <p:nvPr/>
        </p:nvSpPr>
        <p:spPr>
          <a:xfrm>
            <a:off x="7405560" y="2060640"/>
            <a:ext cx="23364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2451240" y="3592440"/>
            <a:ext cx="6298920" cy="19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xample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types of targets are set for the company? What are the goals for your pl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an you tell me about your non-financial goal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he motivation behind your goa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are these goals cascaded down to the individual work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are your targets linked to company performance and their goals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31760" y="152280"/>
            <a:ext cx="904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CERTAIN QUESTIONS GENERATE THE MOST </a:t>
            </a:r>
            <a:r>
              <a:rPr b="1" i="1" lang="en-GB" sz="2200" spc="-1" strike="noStrike">
                <a:solidFill>
                  <a:srgbClr val="5f5f5f"/>
                </a:solidFill>
                <a:latin typeface="Calibri"/>
              </a:rPr>
              <a:t>EARLY 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ORING DISCREPANCY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AC4792-1F07-4E42-AE8B-8888DEB2B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035080" y="1774800"/>
            <a:ext cx="677232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2293920" y="3505320"/>
            <a:ext cx="649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411120" y="1774800"/>
            <a:ext cx="1959120" cy="38322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0" y="0"/>
                </a:lnTo>
                <a:lnTo>
                  <a:pt x="21600" y="10800"/>
                </a:lnTo>
                <a:lnTo>
                  <a:pt x="181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440240" y="1779480"/>
            <a:ext cx="1595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ing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73040" y="1882800"/>
            <a:ext cx="147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moting High Perfor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73040" y="3276360"/>
            <a:ext cx="1422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 whether promotion is performance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92200" y="2363760"/>
            <a:ext cx="173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oor performers are rarely removed from their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4264200" y="2363760"/>
            <a:ext cx="202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eople are promoted upon the basis of perform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6431040" y="2363760"/>
            <a:ext cx="232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e actively identify, develop and promote our top perfor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"/>
          <p:cNvGrpSpPr/>
          <p:nvPr/>
        </p:nvGrpSpPr>
        <p:grpSpPr>
          <a:xfrm>
            <a:off x="8183520" y="1107720"/>
            <a:ext cx="887040" cy="618120"/>
            <a:chOff x="8183520" y="1107720"/>
            <a:chExt cx="887040" cy="618120"/>
          </a:xfrm>
        </p:grpSpPr>
        <p:sp>
          <p:nvSpPr>
            <p:cNvPr id="349" name="Oval 12"/>
            <p:cNvSpPr/>
            <p:nvPr/>
          </p:nvSpPr>
          <p:spPr>
            <a:xfrm flipV="1">
              <a:off x="8502480" y="1107360"/>
              <a:ext cx="2653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"/>
            <p:cNvSpPr/>
            <p:nvPr/>
          </p:nvSpPr>
          <p:spPr>
            <a:xfrm flipV="1">
              <a:off x="8384400" y="1301400"/>
              <a:ext cx="26676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4"/>
            <p:cNvSpPr/>
            <p:nvPr/>
          </p:nvSpPr>
          <p:spPr>
            <a:xfrm flipV="1">
              <a:off x="8619120" y="1301400"/>
              <a:ext cx="267120" cy="255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8183520" y="1573200"/>
              <a:ext cx="88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al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6"/>
          <p:cNvGrpSpPr/>
          <p:nvPr/>
        </p:nvGrpSpPr>
        <p:grpSpPr>
          <a:xfrm>
            <a:off x="411120" y="5656320"/>
            <a:ext cx="8397720" cy="744480"/>
            <a:chOff x="411120" y="5656320"/>
            <a:chExt cx="8397720" cy="744480"/>
          </a:xfrm>
        </p:grpSpPr>
        <p:sp>
          <p:nvSpPr>
            <p:cNvPr id="354" name="Rectangle 17"/>
            <p:cNvSpPr/>
            <p:nvPr/>
          </p:nvSpPr>
          <p:spPr>
            <a:xfrm>
              <a:off x="411120" y="5656320"/>
              <a:ext cx="839772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>
              <a:off x="8112600" y="5656320"/>
              <a:ext cx="69624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9"/>
          <p:cNvSpPr/>
          <p:nvPr/>
        </p:nvSpPr>
        <p:spPr>
          <a:xfrm>
            <a:off x="7070760" y="574992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e gi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473040" y="5707080"/>
            <a:ext cx="245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iewer notes/quo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3157560" y="2060640"/>
            <a:ext cx="23328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5108400" y="2060640"/>
            <a:ext cx="23364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3"/>
          <p:cNvSpPr/>
          <p:nvPr/>
        </p:nvSpPr>
        <p:spPr>
          <a:xfrm>
            <a:off x="7405560" y="2060640"/>
            <a:ext cx="233640" cy="23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2435400" y="3657600"/>
            <a:ext cx="632772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xample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an you tell me about your promotion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about poor performers? What happens with them? Are there any examples you can think o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would you identify and develop your star perfor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f two people both joined the company 5 years ago, and one was much better than the other would he/she be promoted faster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131760" y="152280"/>
            <a:ext cx="9040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CERTAIN QUESTIONS GENERATE THE MOST </a:t>
            </a:r>
            <a:r>
              <a:rPr b="1" i="1" lang="en-GB" sz="2200" spc="-1" strike="noStrike">
                <a:solidFill>
                  <a:srgbClr val="5f5f5f"/>
                </a:solidFill>
                <a:latin typeface="Calibri"/>
              </a:rPr>
              <a:t>EARLY 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ORING DISCREPANCY (3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CE7B7D-6432-48FC-9F4B-86A72C755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1465200" y="1406520"/>
            <a:ext cx="5878080" cy="3220560"/>
            <a:chOff x="1465200" y="1406520"/>
            <a:chExt cx="5878080" cy="3220560"/>
          </a:xfrm>
        </p:grpSpPr>
        <p:sp>
          <p:nvSpPr>
            <p:cNvPr id="365" name="AutoShape 3"/>
            <p:cNvSpPr/>
            <p:nvPr/>
          </p:nvSpPr>
          <p:spPr>
            <a:xfrm>
              <a:off x="1465200" y="1406520"/>
              <a:ext cx="5878080" cy="3220560"/>
            </a:xfrm>
            <a:prstGeom prst="foldedCorner">
              <a:avLst>
                <a:gd name="adj" fmla="val 14222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1697400" y="1605960"/>
              <a:ext cx="5413320" cy="29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Key tas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istinguish between fact and opinion; present versus future; and perception versus re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ocus more on themes and trends rather than numbers (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why there are two interviews!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ake accurate notes without missing key det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core as soon as possible after interview is comple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46160" indent="-1447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SzPct val="120000"/>
                <a:buFont typeface="Calibri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5"/>
          <p:cNvSpPr/>
          <p:nvPr/>
        </p:nvSpPr>
        <p:spPr>
          <a:xfrm>
            <a:off x="101520" y="20304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DVANCED SKILLS LEAD TO ASSURED METHODS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C4CEF-49FC-417C-8224-E0AF8DB1B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352440" y="1420920"/>
            <a:ext cx="814860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scoring grid as a guide, but NOT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is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ibration with other countries and analy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on your part makes process mor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h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, practice, practi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SATION not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01520" y="203040"/>
            <a:ext cx="904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RUNNING MANAGEMENT INTERVIEWS OVERALL INVOLVES REMEMBERING FEW K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C03D2-9411-44EF-9F57-CBEDED15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F4199F-F191-4F5F-980E-04DF474EA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33440" y="1289160"/>
            <a:ext cx="8048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 scheduling and the intervi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 advanced interview techniques and starting the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e scoring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to build a sense of good and bad practices and discuss scor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 examples of manager/ plant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le playing exercise and walk through a structured interview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ive intervie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01520" y="507960"/>
            <a:ext cx="745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PURPOSE OF THIS S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221D19-0F4F-4206-8B52-A4DB3B8CB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52440" y="1420920"/>
            <a:ext cx="8148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witch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 do not have a plant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cannot transfer you without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I ask what it’s reg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 is too busy to tal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 do not do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 are not inter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lant Manag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did you get my name, or my company’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am too busy to talk to you (and am always too bu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 are too small to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am in (about to enter) a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am not allowed to speak to you/ company policy about speaking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am not in tha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am not inter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1520" y="507960"/>
            <a:ext cx="852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ANAGERS FREQUENT REFUSALS (AND RESPON</a:t>
            </a:r>
            <a:r>
              <a:rPr b="0" lang="en-GB" sz="2400" spc="-1" strike="noStrike">
                <a:solidFill>
                  <a:srgbClr val="5f5f5f"/>
                </a:solidFill>
                <a:latin typeface="Calibri"/>
              </a:rPr>
              <a:t>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BD68B1-223F-4006-B6A5-6D788CAE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52440" y="1362240"/>
            <a:ext cx="81486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ing the manager inter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estion jump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itioning between top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oublesome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taining extra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estion by question walk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01520" y="50796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RUNNING MANAGEMENT INTERVIEWS: ANALYST TECHNIQUES AND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3D2775-D1BB-4F41-B1F1-254EAB030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911160"/>
            <a:ext cx="8382240" cy="5718240"/>
          </a:xfrm>
          <a:prstGeom prst="rect">
            <a:avLst/>
          </a:prstGeom>
          <a:ln w="0">
            <a:noFill/>
          </a:ln>
        </p:spPr>
      </p:pic>
      <p:sp>
        <p:nvSpPr>
          <p:cNvPr id="106" name="Oval 4"/>
          <p:cNvSpPr/>
          <p:nvPr/>
        </p:nvSpPr>
        <p:spPr>
          <a:xfrm>
            <a:off x="838080" y="1219320"/>
            <a:ext cx="16380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1965240" y="1994040"/>
            <a:ext cx="16344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1974960" y="2467080"/>
            <a:ext cx="16344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965240" y="2884320"/>
            <a:ext cx="163440" cy="16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971720" y="3265560"/>
            <a:ext cx="16344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1973160" y="4267080"/>
            <a:ext cx="163440" cy="16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1974960" y="4789440"/>
            <a:ext cx="16344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1967040" y="5267160"/>
            <a:ext cx="163440" cy="16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2"/>
          <p:cNvSpPr/>
          <p:nvPr/>
        </p:nvSpPr>
        <p:spPr>
          <a:xfrm>
            <a:off x="1981080" y="6019920"/>
            <a:ext cx="163800" cy="16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2138400" y="241308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2133720" y="423216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2136600" y="513540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154560" y="2146320"/>
            <a:ext cx="267516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alibri"/>
              </a:rPr>
              <a:t>Detail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alibri"/>
              </a:rPr>
              <a:t>matters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01520" y="50796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TARTING THE INTERVIEW CONCISELY AND ACCURATELY IS ESSENTIAL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7CE451-F15F-4984-BC1C-D25A23053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1520" y="1274400"/>
            <a:ext cx="774072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anager posit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I just confirm that…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’s your official title within the company?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ge of pl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old is the plant (not firm) OR when was that plant built  and began operat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at particurlar location only, but regardless of ownership changes -- The firm as manufacturing what it is manufacturing/ producing now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ut this in years – e.g. 10 NOT a calendar date (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maximum is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 NOT ask the region…..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01520" y="50796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TARTING THE INTERVIEW CONCISELY AND ACCURATELY IS ESSENTIAL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3B425C-F5DF-4238-B1F7-1BB55A120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52440" y="1420920"/>
            <a:ext cx="81486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oublesome questions to as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eginning detai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3 – Process documentation (examp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7 – “We never have problem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alent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oublesome questions to get an ans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Manager bo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EO pay g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01680" y="2741760"/>
            <a:ext cx="55119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01520" y="50796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RUNNING MANAGEMENT INTERVIEWS: TROUBLING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D1E22B-EBAF-4767-9719-4E784E4BC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52440" y="1143000"/>
            <a:ext cx="814860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ssues emerge in these se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transition 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get the information without making it a surve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ask financial questions after you promised not to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nsistency and trac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Hierarchical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Task al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fficulties of defining ow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1520" y="50796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RUNNING MANAGEMENT INTERVIEWS: ORGANIZATI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E8A824-0EB2-48D4-9771-1C337E233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29:33Z</dcterms:created>
  <dc:creator>Renata Lemos</dc:creator>
  <dc:description/>
  <dc:language>en-US</dc:language>
  <cp:lastModifiedBy>RENATA LEMOS</cp:lastModifiedBy>
  <dcterms:modified xsi:type="dcterms:W3CDTF">2010-12-10T20:44:44Z</dcterms:modified>
  <cp:revision>20</cp:revision>
  <dc:subject/>
  <dc:title>Slide 1</dc:title>
</cp:coreProperties>
</file>