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E565-9080-444E-A6A8-D93CE0B55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g num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0E19-618E-4455-9B61-91343FC150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-1798560" y="1179360"/>
            <a:ext cx="10407600" cy="780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14EA-9F77-46E0-8113-8387848EF0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5299-11DE-4478-843A-98A0862F03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1E97-7EB0-4192-BE8A-124C293F24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EB8A-C926-423D-94A3-FA2AF8EDDE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C7CF-F0AB-4BFC-8232-FB2C42234B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577A-D63F-4C93-B1EA-A557D66754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6FA9-36EA-4501-83DA-B6C8476A9F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A6CD-5AB0-4A14-A54F-0E81D1441B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DBAA-B048-4C36-B09D-9B99835E6E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AA2-6242-4FC2-A3FF-5488A257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038-37E6-48FA-9B73-83EC6B95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4CA-5EAB-49CD-8236-F37889A8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A14-5477-45EB-8647-E28BC63E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7C7-69D5-45BC-86E9-649B6253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6E6-72D7-4946-965C-5F5734F3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D71-9A53-4621-ADF7-75AEFBC4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CDC-79B1-4D7F-9499-55105CFE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BCD-2893-44CF-BE95-CB02EEEE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453-3693-477B-8405-67D2D569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34C-6C86-4E03-8879-07630745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48E-AF3A-416A-90D9-F614B8CB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9A7D-0E6F-4522-8B04-7DB152A49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2233440"/>
            <a:ext cx="9144000" cy="2627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blue-balls"/>
          <p:cNvPicPr/>
          <p:nvPr/>
        </p:nvPicPr>
        <p:blipFill>
          <a:blip r:embed="rId1">
            <a:grayscl/>
          </a:blip>
          <a:stretch/>
        </p:blipFill>
        <p:spPr>
          <a:xfrm>
            <a:off x="0" y="2247840"/>
            <a:ext cx="2630520" cy="2614680"/>
          </a:xfrm>
          <a:prstGeom prst="rect">
            <a:avLst/>
          </a:prstGeom>
          <a:ln w="0">
            <a:noFill/>
          </a:ln>
        </p:spPr>
      </p:pic>
      <p:sp>
        <p:nvSpPr>
          <p:cNvPr id="128" name="McK Date"/>
          <p:cNvSpPr/>
          <p:nvPr/>
        </p:nvSpPr>
        <p:spPr>
          <a:xfrm>
            <a:off x="5349960" y="4330800"/>
            <a:ext cx="379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8f8f8"/>
                </a:solidFill>
                <a:latin typeface="Calibri"/>
              </a:rPr>
              <a:t>Centre for Economic Performance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90800" y="2496960"/>
            <a:ext cx="4572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alibri"/>
              </a:rPr>
              <a:t>Gathering Accurate Data in a Telephone Intervie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WMS-logofinal.jpg"/>
          <p:cNvPicPr/>
          <p:nvPr/>
        </p:nvPicPr>
        <p:blipFill>
          <a:blip r:embed="rId2"/>
          <a:stretch/>
        </p:blipFill>
        <p:spPr>
          <a:xfrm>
            <a:off x="0" y="0"/>
            <a:ext cx="3773520" cy="6984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2FBC-F64E-4BAB-93A4-91BC3693F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35280" y="1557000"/>
            <a:ext cx="52545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on sense but not common practice…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MCj04359810000[1]"/>
          <p:cNvPicPr/>
          <p:nvPr/>
        </p:nvPicPr>
        <p:blipFill>
          <a:blip r:embed="rId1"/>
          <a:stretch/>
        </p:blipFill>
        <p:spPr>
          <a:xfrm>
            <a:off x="2486160" y="2492280"/>
            <a:ext cx="4043160" cy="307044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D587-6A95-4FD9-987F-1A88D4212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2"/>
          <p:cNvSpPr/>
          <p:nvPr/>
        </p:nvSpPr>
        <p:spPr>
          <a:xfrm>
            <a:off x="1042920" y="1484280"/>
            <a:ext cx="7129440" cy="4321080"/>
          </a:xfrm>
          <a:prstGeom prst="foldedCorner">
            <a:avLst>
              <a:gd name="adj" fmla="val 15638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92360" y="1628280"/>
            <a:ext cx="54720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reakout sess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In teams of 2-3, discuss the following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---What makes phone conversations different from personal commun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---What types of personal traits excel at eac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--What was the most difficult part of a telephone interview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--What are the most annoying traits of telemarket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77760" y="235080"/>
            <a:ext cx="906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GETTING ACCURATE OPINIONS AND INFORMATION ON THE TELEPHONE CAN BE CHALLENGING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C9EB-817F-4999-B4B1-95E1B7D5CA40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700000" y="1413000"/>
            <a:ext cx="6264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t is very difficult to form a bond with someone on the telephone versus in pers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t is more difficult to communicate clearly without the aid of body langu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ople are less likely to be honest with you because you cannot use eye conta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are many barriers to clarit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interviewee may be multitas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may be misinterpretations due to accent/langu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interviewee tends to try to ‘visualise’ the person that is interviewing them, and this can bias their respon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direction of telephone conversations can be highly influenced by the first minute of conver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5280" y="1413000"/>
          <a:ext cx="2521080" cy="464976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16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a less ‘personal’ medium of commun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nterviewee is more likely to misinterpret your ques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26"/>
          <p:cNvSpPr/>
          <p:nvPr/>
        </p:nvSpPr>
        <p:spPr>
          <a:xfrm>
            <a:off x="77760" y="235080"/>
            <a:ext cx="906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GETTING ACCURATE OPINIONS AND INFORMATION ON THE TELEPHONE CAN BE CHALLENGING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2DD4-A75C-4AE8-874B-5796D407F600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195640" y="1412640"/>
            <a:ext cx="669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f the interviewee knows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you are asking them questions, their responses are likely to be more relev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viewees are likely to be more comfortable and honest if you describe what will happen to their respon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lephone interviews already have many communication challenges – lengthy, complex questions only add m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f your questions are too closed, you can miss out on a lot of information that could be import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only way you will get reliable information is through getting details from the interview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Your interviewees will have a tendency to generalise and make broad statements against your ques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ere are often rich details and facts underneath these broad statements, but they won’t come out unless you ask the right ques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f you infer something in your question, the interviewee is likely to respond to your inference – this may affect the accuracy of the respon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95280" y="1413000"/>
          <a:ext cx="1800360" cy="468288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are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nterview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ear, succinct, open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e for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s,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out l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sp>
        <p:nvSpPr>
          <p:cNvPr id="142" name="Rectangle 26"/>
          <p:cNvSpPr/>
          <p:nvPr/>
        </p:nvSpPr>
        <p:spPr>
          <a:xfrm>
            <a:off x="77760" y="576360"/>
            <a:ext cx="906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…</a:t>
            </a: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SO CONDUCTING THE INTERVIEW IN THE RIGHT WAY IS ESS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97D8-F4FD-4521-A7EA-B7BCFA2D9E97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56000" y="1413000"/>
            <a:ext cx="626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the reasons behind the interview and how it will ultimately benefit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what will happen with their responses – ensure them that their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ndividual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inions will not be sha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why we are asking questions in a certain way – ensure them that we are trying to be as accurate as possible in this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the points on your interview guide to ensure that you cover all these before you begin the inter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vite questions and ensure the interviewee is comfortable before you proc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5800" y="1413000"/>
          <a:ext cx="1582560" cy="410364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are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nterview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ear, succinct, open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abab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e for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s,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out l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ababa"/>
                    </a:solidFill>
                  </a:tcPr>
                </a:tc>
              </a:tr>
            </a:tbl>
          </a:graphicData>
        </a:graphic>
      </p:graphicFrame>
      <p:cxnSp>
        <p:nvCxnSpPr>
          <p:cNvPr id="146" name="AutoShape 22"/>
          <p:cNvCxnSpPr>
            <a:endCxn id="144" idx="0"/>
          </p:cNvCxnSpPr>
          <p:nvPr/>
        </p:nvCxnSpPr>
        <p:spPr>
          <a:xfrm>
            <a:off x="2268000" y="1412640"/>
            <a:ext cx="3420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47" name="AutoShape 23"/>
          <p:cNvCxnSpPr/>
          <p:nvPr/>
        </p:nvCxnSpPr>
        <p:spPr>
          <a:xfrm>
            <a:off x="2268360" y="2109960"/>
            <a:ext cx="432720" cy="4030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8" name="Rectangle 26"/>
          <p:cNvSpPr/>
          <p:nvPr/>
        </p:nvSpPr>
        <p:spPr>
          <a:xfrm>
            <a:off x="77760" y="576360"/>
            <a:ext cx="906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KEY STEPS IN AN EFFECTIVE INT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C356-6DAD-48CA-97A8-3ACECE21A919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56000" y="1413000"/>
            <a:ext cx="626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69920" indent="0"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sk one question at a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-168480"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AD: “What percentage of people are highly rated and how do you reward them?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-168480"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TTER: “What percentage of people are highly rated?”,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then “How do you reward those people?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0"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oid ‘management jargon/terminology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-168480"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AD: How is talent management discussed within your organisation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-168480"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TTER : How do you identify and help developed teachers within your school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void closed questi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-168480"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AD: Do you think your employees see you as a good employer or think your competitors are better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-168480">
              <a:spcBef>
                <a:spcPts val="601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TTER : How do you think your employees view you as an employer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413000"/>
          <a:ext cx="1582560" cy="417672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are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nterview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abab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ear, succinct, open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e for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s,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out l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ababa"/>
                    </a:solidFill>
                  </a:tcPr>
                </a:tc>
              </a:tr>
            </a:tbl>
          </a:graphicData>
        </a:graphic>
      </p:graphicFrame>
      <p:cxnSp>
        <p:nvCxnSpPr>
          <p:cNvPr id="152" name="AutoShape 22"/>
          <p:cNvCxnSpPr/>
          <p:nvPr/>
        </p:nvCxnSpPr>
        <p:spPr>
          <a:xfrm flipV="1">
            <a:off x="2268360" y="1166040"/>
            <a:ext cx="431280" cy="13042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3" name="AutoShape 23"/>
          <p:cNvCxnSpPr/>
          <p:nvPr/>
        </p:nvCxnSpPr>
        <p:spPr>
          <a:xfrm>
            <a:off x="2268360" y="4005000"/>
            <a:ext cx="504000" cy="21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4" name="Rectangle 26"/>
          <p:cNvSpPr/>
          <p:nvPr/>
        </p:nvSpPr>
        <p:spPr>
          <a:xfrm>
            <a:off x="77760" y="576360"/>
            <a:ext cx="906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KEY STEPS IN AN EFFECTIVE INT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E7EC-2729-41E4-BCAF-241CFF6B21AC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56000" y="1413000"/>
            <a:ext cx="626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Begin with an open question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lease describe your organisation’s process for tracking the performance of employ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f the response is unclear or there is a lack of understanding, then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break the question down into more specific questions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often do you meet to discuss the performance of employee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measures are used to determine their performanc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f the response is too general,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ask for a specific exampl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describe exactly what happens when a typical employee is reviewed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n you remember a recent employee review meeting that  you attend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413000"/>
          <a:ext cx="1582560" cy="418788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are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nterview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abab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ear, succinct, open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abab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e for </a:t>
                      </a:r>
                      <a:r>
                        <a:rPr b="1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s,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out l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cxnSp>
        <p:nvCxnSpPr>
          <p:cNvPr id="158" name="AutoShape 84"/>
          <p:cNvCxnSpPr/>
          <p:nvPr/>
        </p:nvCxnSpPr>
        <p:spPr>
          <a:xfrm flipV="1">
            <a:off x="2268000" y="1186920"/>
            <a:ext cx="359640" cy="3060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9" name="AutoShape 85"/>
          <p:cNvCxnSpPr/>
          <p:nvPr/>
        </p:nvCxnSpPr>
        <p:spPr>
          <a:xfrm>
            <a:off x="2209320" y="556236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0" name="Rectangle 26"/>
          <p:cNvSpPr/>
          <p:nvPr/>
        </p:nvSpPr>
        <p:spPr>
          <a:xfrm>
            <a:off x="77760" y="576360"/>
            <a:ext cx="906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KEY STEPS IN AN EFFECTIVE INT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9433-A0EE-4E52-8A3B-A6A1A155FBC4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en vs. closed ques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sation vs. questionnai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priate vs. profess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ve vs. time consciou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77760" y="576360"/>
            <a:ext cx="906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KEY POINTS FOR CONDUCTING MANAGEMENT PHONE INTER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3D5C-4BE8-4D24-8DB2-21950CE49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1042920" y="1484280"/>
            <a:ext cx="7416720" cy="4537080"/>
          </a:xfrm>
          <a:prstGeom prst="foldedCorner">
            <a:avLst>
              <a:gd name="adj" fmla="val 1563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147040" y="1916280"/>
            <a:ext cx="40240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f you have former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ucting telephone interview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were your key learning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77760" y="235080"/>
            <a:ext cx="906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5f5f5f"/>
                </a:solidFill>
                <a:latin typeface="Calibri"/>
              </a:rPr>
              <a:t>GETTING ACCURATE OPINIONS AND INFORMATION ON THE TELEPHONE CAN BE CHALLENGING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D5F-ED51-4706-95A1-617D6FDBE8A1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29:33Z</dcterms:created>
  <dc:creator>Renata Lemos</dc:creator>
  <dc:description/>
  <dc:language>en-US</dc:language>
  <cp:lastModifiedBy>RENATA LEMOS</cp:lastModifiedBy>
  <dcterms:modified xsi:type="dcterms:W3CDTF">2010-12-10T20:45:50Z</dcterms:modified>
  <cp:revision>14</cp:revision>
  <dc:subject/>
  <dc:title>Slide 1</dc:title>
</cp:coreProperties>
</file>